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wmf" ContentType="image/x-wmf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16.wmf" ContentType="image/x-wmf"/>
  <Override PartName="/ppt/media/image14.jpeg" ContentType="image/jpeg"/>
  <Override PartName="/ppt/media/image22.jpeg" ContentType="image/jpeg"/>
  <Override PartName="/ppt/media/image42.wmf" ContentType="image/x-wmf"/>
  <Override PartName="/ppt/media/image1.jpeg" ContentType="image/jpeg"/>
  <Override PartName="/ppt/media/image47.png" ContentType="image/png"/>
  <Override PartName="/ppt/media/image50.wmf" ContentType="image/x-wmf"/>
  <Override PartName="/ppt/media/image23.jpeg" ContentType="image/jpeg"/>
  <Override PartName="/ppt/media/image2.jpeg" ContentType="image/jpeg"/>
  <Override PartName="/ppt/media/image36.jpeg" ContentType="image/jpeg"/>
  <Override PartName="/ppt/media/image3.jpeg" ContentType="image/jpeg"/>
  <Override PartName="/ppt/media/image30.png" ContentType="image/png"/>
  <Override PartName="/ppt/media/image25.jpeg" ContentType="image/jpeg"/>
  <Override PartName="/ppt/media/image32.png" ContentType="image/png"/>
  <Override PartName="/ppt/media/image11.jpeg" ContentType="image/jpeg"/>
  <Override PartName="/ppt/media/image9.jpeg" ContentType="image/jpeg"/>
  <Override PartName="/ppt/media/image48.png" ContentType="image/png"/>
  <Override PartName="/ppt/media/image13.png" ContentType="image/png"/>
  <Override PartName="/ppt/media/image35.png" ContentType="image/png"/>
  <Override PartName="/ppt/media/image5.jpeg" ContentType="image/jpeg"/>
  <Override PartName="/ppt/media/image26.jpeg" ContentType="image/jpeg"/>
  <Override PartName="/ppt/media/image31.png" ContentType="image/png"/>
  <Override PartName="/ppt/media/image49.wmf" ContentType="image/x-wmf"/>
  <Override PartName="/ppt/media/image43.png" ContentType="image/png"/>
  <Override PartName="/ppt/media/image44.png" ContentType="image/png"/>
  <Override PartName="/ppt/media/image33.png" ContentType="image/png"/>
  <Override PartName="/ppt/media/image45.png" ContentType="image/png"/>
  <Override PartName="/ppt/media/image6.jpeg" ContentType="image/jpeg"/>
  <Override PartName="/ppt/media/image27.jpeg" ContentType="image/jpeg"/>
  <Override PartName="/ppt/media/image46.png" ContentType="image/png"/>
  <Override PartName="/ppt/media/image37.wmf" ContentType="image/x-wmf"/>
  <Override PartName="/ppt/media/image41.wmf" ContentType="image/x-wmf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34.png" ContentType="image/png"/>
  <Override PartName="/ppt/media/image7.jpeg" ContentType="image/jpeg"/>
  <Override PartName="/ppt/media/image4.jpeg" ContentType="image/jpeg"/>
  <Override PartName="/ppt/media/image40.png" ContentType="image/png"/>
  <Override PartName="/ppt/media/image38.wmf" ContentType="image/x-wmf"/>
  <Override PartName="/ppt/media/image28.jpeg" ContentType="image/jpeg"/>
  <Override PartName="/ppt/media/image5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C1951-2AB1-437D-AEA8-C3613AD62D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87061-7C7C-4026-8596-C0CE6A7669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5977A-3986-4DC5-80C5-D51147B69B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ADFCB-747C-4476-BBA2-225CBC503E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0CEAD-E2D4-41E0-8E83-376E058F53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FCB6F-F3BA-4996-9B07-94D50C2A3F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2D47B-D2EA-44D9-B13E-0DB1996FF3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C8FA4-C4EF-4F21-8456-056A9E8782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37690-0D5D-4EF0-9F6C-0EF8696107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0E6EF-2BD6-4A6E-8686-90AAEEE945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274A9-6FDC-4DB3-A2D8-CF6BE8F755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21169-E354-4808-B618-714ABE7667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CAA98-A975-4559-B587-4801FA8FB7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C0F3E-5283-4C85-9136-8154D4B275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C13E9-67E0-4983-A89B-6D31A0404D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E2BA2-4975-4B0B-8FBF-22BBD23494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64F88-1592-40B9-87C5-9FBB833B6B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DCDED-8227-42E8-B702-59E83FD964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A1319-57A9-4EAE-A95B-2CE9B5CDFC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E2F55-AB63-492C-B306-0A1413DDB1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3640A-9CD0-4CF1-A9FE-B89A6A2F78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B7138-74EB-4175-B629-ECF5478D67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86A6B-BB9C-42C2-9FB0-A59F2E0BB7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6D187-E674-4C66-9268-6231B52AEA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DF636-6599-4FE8-AFA6-1BAFC42C10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5D772-4193-4A35-BB42-85692DBFDE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8D279-D898-4987-8B78-8750C70257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5B048-B9E3-4C3B-840A-FD025D6CDE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ABF24-7A5A-4021-BEC7-B0E9CE591D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AEFED-D34B-49EA-BB9D-48580F3DC6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4BF2EF-1717-4D6A-AEAA-01A8CEB9C0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3A55C6-D24E-4D2F-AF34-53F64112CB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0C5A5C-9EBD-4721-9C98-2F9A5DD698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33EBAF-3477-4C07-8F41-9647833E53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E1E400-14E1-41E3-8F67-32AC7F7104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0DC445-FA8D-4F61-A929-47D5B09A7F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999F0E-DB91-4340-A2E4-24542AA8E8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2C404B-6D01-4A3A-87B6-2D46FF5B34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2730C9-F8E3-426F-AAC6-D0180AC0CA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200E8F-0922-4EC5-913D-B5A407E2D2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58DFAD-ABEC-4D56-9FDE-55FBA2FF62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5EF003-6CF8-4695-B2D5-F4C62FB7D4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6EEA5-55C4-4660-B21D-30DA946EB1C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pic>
        <p:nvPicPr>
          <p:cNvPr id="64" name="Picture 22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3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4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2" descr="CLSI_WHO_Blue_CMYK1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0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image" Target="../media/image30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39.jpeg"/><Relationship Id="rId3" Type="http://schemas.openxmlformats.org/officeDocument/2006/relationships/image" Target="../media/image40.png"/><Relationship Id="rId4" Type="http://schemas.openxmlformats.org/officeDocument/2006/relationships/image" Target="../media/image41.wmf"/><Relationship Id="rId5" Type="http://schemas.openxmlformats.org/officeDocument/2006/relationships/image" Target="../media/image42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image" Target="../media/image46.png"/><Relationship Id="rId4" Type="http://schemas.openxmlformats.org/officeDocument/2006/relationships/image" Target="../media/image47.png"/><Relationship Id="rId5" Type="http://schemas.openxmlformats.org/officeDocument/2006/relationships/image" Target="../media/image48.png"/><Relationship Id="rId6" Type="http://schemas.openxmlformats.org/officeDocument/2006/relationships/image" Target="../media/image44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0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15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971440" y="2062080"/>
            <a:ext cx="525780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ff"/>
                </a:solidFill>
                <a:latin typeface="Verdana"/>
              </a:rPr>
              <a:t>Обслуживание клиентов</a:t>
            </a:r>
            <a:endParaRPr b="0" lang="en-US" sz="42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6B7BD-B57B-400C-8CC4-1523B5C2237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D05D4-B415-444A-9622-E265F3FE14C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AutoShape 2"/>
          <p:cNvSpPr/>
          <p:nvPr/>
        </p:nvSpPr>
        <p:spPr>
          <a:xfrm>
            <a:off x="6858000" y="1295280"/>
            <a:ext cx="175248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селен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отребности врачей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5" name="AutoShape 4"/>
          <p:cNvSpPr/>
          <p:nvPr/>
        </p:nvSpPr>
        <p:spPr>
          <a:xfrm>
            <a:off x="609480" y="2324160"/>
            <a:ext cx="190512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ациент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AutoShape 5"/>
          <p:cNvSpPr/>
          <p:nvPr/>
        </p:nvSpPr>
        <p:spPr>
          <a:xfrm>
            <a:off x="6324480" y="2400480"/>
            <a:ext cx="2210040" cy="799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храна здоровь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AutoShape 6"/>
          <p:cNvSpPr/>
          <p:nvPr/>
        </p:nvSpPr>
        <p:spPr>
          <a:xfrm>
            <a:off x="3124080" y="5486400"/>
            <a:ext cx="2895840" cy="7621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Verdana"/>
              </a:rPr>
              <a:t>Лаборатор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38" name="AutoShape 7"/>
          <p:cNvCxnSpPr>
            <a:stCxn id="237" idx="0"/>
            <a:endCxn id="236" idx="2"/>
          </p:cNvCxnSpPr>
          <p:nvPr/>
        </p:nvCxnSpPr>
        <p:spPr>
          <a:xfrm flipV="1">
            <a:off x="4572000" y="3200040"/>
            <a:ext cx="2858400" cy="228672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9" name="AutoShape 8"/>
          <p:cNvCxnSpPr>
            <a:stCxn id="237" idx="0"/>
            <a:endCxn id="235" idx="2"/>
          </p:cNvCxnSpPr>
          <p:nvPr/>
        </p:nvCxnSpPr>
        <p:spPr>
          <a:xfrm flipH="1" flipV="1">
            <a:off x="1561320" y="3085560"/>
            <a:ext cx="3010680" cy="240084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40" name="AutoShape 9"/>
          <p:cNvSpPr/>
          <p:nvPr/>
        </p:nvSpPr>
        <p:spPr>
          <a:xfrm>
            <a:off x="3124080" y="1447920"/>
            <a:ext cx="289584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Врач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41" name="AutoShape 10"/>
          <p:cNvCxnSpPr>
            <a:stCxn id="237" idx="0"/>
            <a:endCxn id="240" idx="2"/>
          </p:cNvCxnSpPr>
          <p:nvPr/>
        </p:nvCxnSpPr>
        <p:spPr>
          <a:xfrm flipV="1">
            <a:off x="4571640" y="2590200"/>
            <a:ext cx="1080" cy="289620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11"/>
          <p:cNvCxnSpPr>
            <a:stCxn id="235" idx="3"/>
            <a:endCxn id="240" idx="1"/>
          </p:cNvCxnSpPr>
          <p:nvPr/>
        </p:nvCxnSpPr>
        <p:spPr>
          <a:xfrm flipV="1">
            <a:off x="2514240" y="2018520"/>
            <a:ext cx="610200" cy="68652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43" name="AutoShape 12"/>
          <p:cNvCxnSpPr>
            <a:stCxn id="240" idx="3"/>
            <a:endCxn id="236" idx="1"/>
          </p:cNvCxnSpPr>
          <p:nvPr/>
        </p:nvCxnSpPr>
        <p:spPr>
          <a:xfrm>
            <a:off x="6019920" y="2019240"/>
            <a:ext cx="305280" cy="78192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4" name="Rectangle 13"/>
          <p:cNvSpPr/>
          <p:nvPr/>
        </p:nvSpPr>
        <p:spPr>
          <a:xfrm>
            <a:off x="2133720" y="3809880"/>
            <a:ext cx="4800600" cy="12956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Точная информац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Понятная</a:t>
            </a: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информац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Своевременнос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87101-8DCA-4239-93AD-F0238956364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2D951-1D81-4510-9FDF-DCC913C3192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534520" cy="101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7d"/>
                </a:solidFill>
                <a:latin typeface="Verdana"/>
              </a:rPr>
              <a:t>Для удовлетворения потребностей врачей требуется:</a:t>
            </a:r>
            <a:endParaRPr b="0" lang="en-US" sz="30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266760" y="2225520"/>
          <a:ext cx="8496360" cy="3870360"/>
        </p:xfrm>
        <a:graphic>
          <a:graphicData uri="http://schemas.openxmlformats.org/drawingml/2006/table">
            <a:tbl>
              <a:tblPr/>
              <a:tblGrid>
                <a:gridCol w="2411280"/>
                <a:gridCol w="3205080"/>
                <a:gridCol w="2880000"/>
              </a:tblGrid>
              <a:tr h="823320">
                <a:tc>
                  <a:txBody>
                    <a:bodyPr lIns="36000" rIns="360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До исследова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Исследова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После исследова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3047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еречень анализ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руководство по взятию про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формы запрос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истема своевременной достав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роверка компетент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алидация метод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онтроль качест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ценка качест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онтроль про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управление процессам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управление нештатными ситуациям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истема лабораторной информа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одтверждение результат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воевременные результа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онятные результа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воевременная достав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аккуратная достав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250" name="AutoShape 47"/>
          <p:cNvSpPr/>
          <p:nvPr/>
        </p:nvSpPr>
        <p:spPr>
          <a:xfrm>
            <a:off x="533520" y="1371600"/>
            <a:ext cx="1600200" cy="685800"/>
          </a:xfrm>
          <a:custGeom>
            <a:avLst/>
            <a:gdLst>
              <a:gd name="textAreaLeft" fmla="*/ 249840 w 1600200"/>
              <a:gd name="textAreaRight" fmla="*/ 1400400 w 16002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11f711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AutoShape 48"/>
          <p:cNvSpPr/>
          <p:nvPr/>
        </p:nvSpPr>
        <p:spPr>
          <a:xfrm>
            <a:off x="3200400" y="1371600"/>
            <a:ext cx="1752480" cy="685800"/>
          </a:xfrm>
          <a:custGeom>
            <a:avLst/>
            <a:gdLst>
              <a:gd name="textAreaLeft" fmla="*/ 273600 w 1752480"/>
              <a:gd name="textAreaRight" fmla="*/ 1533600 w 175248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AutoShape 49"/>
          <p:cNvSpPr/>
          <p:nvPr/>
        </p:nvSpPr>
        <p:spPr>
          <a:xfrm>
            <a:off x="6477120" y="1371600"/>
            <a:ext cx="1676160" cy="685800"/>
          </a:xfrm>
          <a:custGeom>
            <a:avLst/>
            <a:gdLst>
              <a:gd name="textAreaLeft" fmla="*/ 261720 w 1676160"/>
              <a:gd name="textAreaRight" fmla="*/ 1466640 w 167616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3550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53" name="AutoShape 10"/>
          <p:cNvCxnSpPr>
            <a:stCxn id="254" idx="0"/>
          </p:cNvCxnSpPr>
          <p:nvPr/>
        </p:nvCxnSpPr>
        <p:spPr>
          <a:xfrm flipH="1" flipV="1">
            <a:off x="4799880" y="2895120"/>
            <a:ext cx="1220040" cy="190584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55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590D2-11DC-43C9-AD94-1F534990E5A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A5405-0ED0-4C91-A355-FA52BFCBAE5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Rectangle 13"/>
          <p:cNvSpPr/>
          <p:nvPr/>
        </p:nvSpPr>
        <p:spPr>
          <a:xfrm>
            <a:off x="228600" y="3429000"/>
            <a:ext cx="3962520" cy="182880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Информац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Безопасность</a:t>
            </a: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Удобство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Конфиденциальнос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AutoShape 2"/>
          <p:cNvSpPr/>
          <p:nvPr/>
        </p:nvSpPr>
        <p:spPr>
          <a:xfrm>
            <a:off x="6858000" y="990720"/>
            <a:ext cx="198108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селен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отребности пациентов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1" name="AutoShape 4"/>
          <p:cNvSpPr/>
          <p:nvPr/>
        </p:nvSpPr>
        <p:spPr>
          <a:xfrm>
            <a:off x="304920" y="1752480"/>
            <a:ext cx="259056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Пациент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AutoShape 5"/>
          <p:cNvSpPr/>
          <p:nvPr/>
        </p:nvSpPr>
        <p:spPr>
          <a:xfrm>
            <a:off x="6400800" y="2133720"/>
            <a:ext cx="2286000" cy="1028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храна здоровь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AutoShape 6"/>
          <p:cNvSpPr/>
          <p:nvPr/>
        </p:nvSpPr>
        <p:spPr>
          <a:xfrm>
            <a:off x="4572000" y="4800600"/>
            <a:ext cx="2895480" cy="106668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Verdana"/>
              </a:rPr>
              <a:t>Лаборатор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63" name="AutoShape 7"/>
          <p:cNvCxnSpPr>
            <a:stCxn id="254" idx="0"/>
          </p:cNvCxnSpPr>
          <p:nvPr/>
        </p:nvCxnSpPr>
        <p:spPr>
          <a:xfrm flipV="1">
            <a:off x="6019920" y="3161520"/>
            <a:ext cx="915120" cy="163908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4" name="AutoShape 8"/>
          <p:cNvCxnSpPr>
            <a:stCxn id="254" idx="0"/>
          </p:cNvCxnSpPr>
          <p:nvPr/>
        </p:nvCxnSpPr>
        <p:spPr>
          <a:xfrm flipH="1" flipV="1">
            <a:off x="2894760" y="2742840"/>
            <a:ext cx="3125160" cy="205776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65" name="AutoShape 9"/>
          <p:cNvSpPr/>
          <p:nvPr/>
        </p:nvSpPr>
        <p:spPr>
          <a:xfrm>
            <a:off x="3581280" y="1752480"/>
            <a:ext cx="221004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рач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66" name="AutoShape 11"/>
          <p:cNvCxnSpPr>
            <a:stCxn id="261" idx="3"/>
            <a:endCxn id="265" idx="1"/>
          </p:cNvCxnSpPr>
          <p:nvPr/>
        </p:nvCxnSpPr>
        <p:spPr>
          <a:xfrm>
            <a:off x="2895120" y="2323800"/>
            <a:ext cx="686520" cy="108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7" name="AutoShape 12"/>
          <p:cNvCxnSpPr>
            <a:stCxn id="265" idx="3"/>
            <a:endCxn id="262" idx="1"/>
          </p:cNvCxnSpPr>
          <p:nvPr/>
        </p:nvCxnSpPr>
        <p:spPr>
          <a:xfrm>
            <a:off x="5790960" y="2323800"/>
            <a:ext cx="610200" cy="32436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B55F7-B7E0-417D-A0E4-E60969CFFD5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1F570-0140-409E-89E1-12B12C424DE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76960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7d"/>
                </a:solidFill>
                <a:latin typeface="Verdana"/>
              </a:rPr>
              <a:t>Для удовлетворения потребностей пациентов требуется:</a:t>
            </a:r>
            <a:endParaRPr b="0" lang="en-US" sz="30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33520" y="1496880"/>
            <a:ext cx="861048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399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едоставить информацию о взятии проб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3399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еспечить условия для взятия проб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3399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ученный и знающий персонал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3399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онфиденциальность результат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3399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ддержание документац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3" name="Picture 6" descr="PH01633J"/>
          <p:cNvPicPr/>
          <p:nvPr/>
        </p:nvPicPr>
        <p:blipFill>
          <a:blip r:embed="rId1"/>
          <a:stretch/>
        </p:blipFill>
        <p:spPr>
          <a:xfrm>
            <a:off x="6019920" y="4419720"/>
            <a:ext cx="2743200" cy="181584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7" descr="10030_lores"/>
          <p:cNvPicPr/>
          <p:nvPr/>
        </p:nvPicPr>
        <p:blipFill>
          <a:blip r:embed="rId2"/>
          <a:stretch/>
        </p:blipFill>
        <p:spPr>
          <a:xfrm>
            <a:off x="762120" y="4419720"/>
            <a:ext cx="2647800" cy="1778040"/>
          </a:xfrm>
          <a:prstGeom prst="rect">
            <a:avLst/>
          </a:prstGeom>
          <a:ln w="0">
            <a:noFill/>
          </a:ln>
        </p:spPr>
      </p:pic>
      <p:sp>
        <p:nvSpPr>
          <p:cNvPr id="275" name="Text Box 8"/>
          <p:cNvSpPr/>
          <p:nvPr/>
        </p:nvSpPr>
        <p:spPr>
          <a:xfrm>
            <a:off x="6019920" y="5867280"/>
            <a:ext cx="276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Verdana"/>
              </a:rPr>
              <a:t>конфиденциально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76" name="Group 2"/>
          <p:cNvGrpSpPr/>
          <p:nvPr/>
        </p:nvGrpSpPr>
        <p:grpSpPr>
          <a:xfrm>
            <a:off x="3581640" y="4106160"/>
            <a:ext cx="2342880" cy="2597400"/>
            <a:chOff x="3581640" y="4106160"/>
            <a:chExt cx="2342880" cy="2597400"/>
          </a:xfrm>
        </p:grpSpPr>
        <p:pic>
          <p:nvPicPr>
            <p:cNvPr id="277" name="Picture 12" descr="14_instructions"/>
            <p:cNvPicPr/>
            <p:nvPr/>
          </p:nvPicPr>
          <p:blipFill>
            <a:blip r:embed="rId3"/>
            <a:stretch/>
          </p:blipFill>
          <p:spPr>
            <a:xfrm rot="20064600">
              <a:off x="3962160" y="4343400"/>
              <a:ext cx="1581120" cy="212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TextBox 1"/>
            <p:cNvSpPr/>
            <p:nvPr/>
          </p:nvSpPr>
          <p:spPr>
            <a:xfrm rot="20040000">
              <a:off x="4014720" y="4518360"/>
              <a:ext cx="1309680" cy="1585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Arial Narrow"/>
                </a:rPr>
                <a:t>Услуги Лаборатории качества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1818ff"/>
                  </a:solidFill>
                  <a:latin typeface="Arial"/>
                </a:rPr>
                <a:t>Инструкции для пациентов по сбору проб для анализов на гельминты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25CDE-0D31-4754-BD5A-BEAA0ACF150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11903-8012-40A8-9E3B-CD4A8F14379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305920" cy="107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редоставьте пациентам следующую информацию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3" name="Text Box 7"/>
          <p:cNvSpPr/>
          <p:nvPr/>
        </p:nvSpPr>
        <p:spPr>
          <a:xfrm>
            <a:off x="457200" y="2141640"/>
            <a:ext cx="3581280" cy="33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адрес лаборатории и инструкции, как до нее добраться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181080" indent="-181080"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ремя работ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181080" indent="-181080"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есть ли персонал, владеющий двумя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/или более языкам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4" name="Picture 5" descr="14_direcions-to_lab_l"/>
          <p:cNvPicPr/>
          <p:nvPr/>
        </p:nvPicPr>
        <p:blipFill>
          <a:blip r:embed="rId1"/>
          <a:srcRect l="0" t="0" r="0" b="2197"/>
          <a:stretch/>
        </p:blipFill>
        <p:spPr>
          <a:xfrm>
            <a:off x="3886200" y="2287440"/>
            <a:ext cx="4952880" cy="373392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9" descr="j0397074"/>
          <p:cNvPicPr/>
          <p:nvPr/>
        </p:nvPicPr>
        <p:blipFill>
          <a:blip r:embed="rId2"/>
          <a:stretch/>
        </p:blipFill>
        <p:spPr>
          <a:xfrm>
            <a:off x="7391520" y="2209680"/>
            <a:ext cx="1295280" cy="12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ADD23-89DF-4B3C-9BE2-C34D643EEEF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92C42-92A3-418B-8C23-57BA7601C7B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72025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Требования к забору проб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56840" y="1429920"/>
            <a:ext cx="7924680" cy="405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дентификация пациен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дготовка пациен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ип требующейся проб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ип контейнер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маркировк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пециальные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словия обраще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меры безопасност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1" name="Picture 5" descr="5_sample_collection_2"/>
          <p:cNvPicPr/>
          <p:nvPr/>
        </p:nvPicPr>
        <p:blipFill>
          <a:blip r:embed="rId1"/>
          <a:srcRect l="0" t="0" r="0" b="23557"/>
          <a:stretch/>
        </p:blipFill>
        <p:spPr>
          <a:xfrm>
            <a:off x="4884840" y="4038480"/>
            <a:ext cx="3954240" cy="207972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6" descr="6215_lores"/>
          <p:cNvPicPr/>
          <p:nvPr/>
        </p:nvPicPr>
        <p:blipFill>
          <a:blip r:embed="rId2"/>
          <a:srcRect l="34286" t="63599" r="18571" b="6579"/>
          <a:stretch/>
        </p:blipFill>
        <p:spPr>
          <a:xfrm>
            <a:off x="5562720" y="2590920"/>
            <a:ext cx="3200400" cy="153324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7" descr="6231_thumb"/>
          <p:cNvPicPr/>
          <p:nvPr/>
        </p:nvPicPr>
        <p:blipFill>
          <a:blip r:embed="rId3"/>
          <a:stretch/>
        </p:blipFill>
        <p:spPr>
          <a:xfrm rot="11535600">
            <a:off x="6108480" y="4679280"/>
            <a:ext cx="1855800" cy="126684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294" name="Picture 8" descr="patient-wristband"/>
          <p:cNvPicPr/>
          <p:nvPr/>
        </p:nvPicPr>
        <p:blipFill>
          <a:blip r:embed="rId4"/>
          <a:stretch/>
        </p:blipFill>
        <p:spPr>
          <a:xfrm>
            <a:off x="7010280" y="1066680"/>
            <a:ext cx="1524240" cy="15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7D308-651A-4A99-80C8-71F7A8C96B1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96896-E637-4BE9-8BBC-5566576569D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8" name="Picture 10" descr="13_clean_rooms_new"/>
          <p:cNvPicPr/>
          <p:nvPr/>
        </p:nvPicPr>
        <p:blipFill>
          <a:blip r:embed="rId1"/>
          <a:stretch/>
        </p:blipFill>
        <p:spPr>
          <a:xfrm>
            <a:off x="304920" y="539640"/>
            <a:ext cx="8534160" cy="577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99" name="AutoShape 10"/>
          <p:cNvCxnSpPr>
            <a:stCxn id="300" idx="0"/>
            <a:endCxn id="301" idx="2"/>
          </p:cNvCxnSpPr>
          <p:nvPr/>
        </p:nvCxnSpPr>
        <p:spPr>
          <a:xfrm flipV="1">
            <a:off x="3200040" y="3199680"/>
            <a:ext cx="1143720" cy="167724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02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385F2-ED7A-4C08-A2B5-5CC3B4C1D0A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9C047-176E-461C-9837-7F97E305A01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AutoShape 2"/>
          <p:cNvSpPr/>
          <p:nvPr/>
        </p:nvSpPr>
        <p:spPr>
          <a:xfrm>
            <a:off x="6400800" y="1371600"/>
            <a:ext cx="190512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селен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6840" y="399960"/>
            <a:ext cx="762012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отребности ведомств охраны здоровья населен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7" name="AutoShape 4"/>
          <p:cNvSpPr/>
          <p:nvPr/>
        </p:nvSpPr>
        <p:spPr>
          <a:xfrm>
            <a:off x="609480" y="2286000"/>
            <a:ext cx="182880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ациент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AutoShape 5"/>
          <p:cNvSpPr/>
          <p:nvPr/>
        </p:nvSpPr>
        <p:spPr>
          <a:xfrm>
            <a:off x="5943600" y="2400480"/>
            <a:ext cx="2971800" cy="1257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Verdana"/>
              </a:rPr>
              <a:t>Группы и лица, вовлеченные в охрану здоровья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AutoShape 6"/>
          <p:cNvSpPr/>
          <p:nvPr/>
        </p:nvSpPr>
        <p:spPr>
          <a:xfrm>
            <a:off x="1905120" y="4876920"/>
            <a:ext cx="2590560" cy="83808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Лаборатор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309" name="AutoShape 7"/>
          <p:cNvCxnSpPr>
            <a:stCxn id="300" idx="0"/>
          </p:cNvCxnSpPr>
          <p:nvPr/>
        </p:nvCxnSpPr>
        <p:spPr>
          <a:xfrm flipV="1">
            <a:off x="3200040" y="3504960"/>
            <a:ext cx="2896200" cy="137232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0" name="AutoShape 8"/>
          <p:cNvCxnSpPr>
            <a:stCxn id="300" idx="0"/>
            <a:endCxn id="307" idx="2"/>
          </p:cNvCxnSpPr>
          <p:nvPr/>
        </p:nvCxnSpPr>
        <p:spPr>
          <a:xfrm flipH="1" flipV="1">
            <a:off x="1523160" y="3047760"/>
            <a:ext cx="1677240" cy="182952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301" name="AutoShape 9"/>
          <p:cNvSpPr/>
          <p:nvPr/>
        </p:nvSpPr>
        <p:spPr>
          <a:xfrm>
            <a:off x="3429000" y="2209680"/>
            <a:ext cx="1828800" cy="99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рач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311" name="AutoShape 11"/>
          <p:cNvCxnSpPr>
            <a:stCxn id="307" idx="3"/>
            <a:endCxn id="301" idx="1"/>
          </p:cNvCxnSpPr>
          <p:nvPr/>
        </p:nvCxnSpPr>
        <p:spPr>
          <a:xfrm>
            <a:off x="2438280" y="2666880"/>
            <a:ext cx="991440" cy="3888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2" name="AutoShape 12"/>
          <p:cNvCxnSpPr>
            <a:stCxn id="301" idx="3"/>
            <a:endCxn id="308" idx="1"/>
          </p:cNvCxnSpPr>
          <p:nvPr/>
        </p:nvCxnSpPr>
        <p:spPr>
          <a:xfrm>
            <a:off x="5257440" y="2705040"/>
            <a:ext cx="686520" cy="32472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13" name="Rectangle 13"/>
          <p:cNvSpPr/>
          <p:nvPr/>
        </p:nvSpPr>
        <p:spPr>
          <a:xfrm>
            <a:off x="5334120" y="4114800"/>
            <a:ext cx="3429000" cy="20192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Информационные материал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Обеспечение безопасност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B1694-1917-4D68-8E5F-6C0C489EFDE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D9BA2-4108-46C9-B377-1533DB493AB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17" name="Diagram 8"/>
          <p:cNvGrpSpPr/>
          <p:nvPr/>
        </p:nvGrpSpPr>
        <p:grpSpPr>
          <a:xfrm>
            <a:off x="380880" y="1092240"/>
            <a:ext cx="8395560" cy="5117760"/>
            <a:chOff x="380880" y="1092240"/>
            <a:chExt cx="8395560" cy="5117760"/>
          </a:xfrm>
        </p:grpSpPr>
        <p:sp>
          <p:nvSpPr>
            <p:cNvPr id="318" name="_s1028"/>
            <p:cNvSpPr/>
            <p:nvPr/>
          </p:nvSpPr>
          <p:spPr>
            <a:xfrm flipH="1" flipV="1">
              <a:off x="2362680" y="2895840"/>
              <a:ext cx="1395000" cy="50076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9" name="_s1029"/>
            <p:cNvSpPr/>
            <p:nvPr/>
          </p:nvSpPr>
          <p:spPr>
            <a:xfrm>
              <a:off x="457560" y="1941840"/>
              <a:ext cx="2053080" cy="133308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Удаление отходов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0" name="_s1030"/>
            <p:cNvSpPr/>
            <p:nvPr/>
          </p:nvSpPr>
          <p:spPr>
            <a:xfrm flipH="1">
              <a:off x="2869560" y="4064040"/>
              <a:ext cx="888480" cy="33300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1" name="_s1031"/>
            <p:cNvSpPr/>
            <p:nvPr/>
          </p:nvSpPr>
          <p:spPr>
            <a:xfrm>
              <a:off x="380880" y="4190040"/>
              <a:ext cx="2398320" cy="13334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Транспортировка опасных материалов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2" name="_s1032"/>
            <p:cNvSpPr/>
            <p:nvPr/>
          </p:nvSpPr>
          <p:spPr>
            <a:xfrm>
              <a:off x="4570560" y="4397040"/>
              <a:ext cx="0" cy="66672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3" name="_s1033"/>
            <p:cNvSpPr/>
            <p:nvPr/>
          </p:nvSpPr>
          <p:spPr>
            <a:xfrm>
              <a:off x="3124440" y="4876920"/>
              <a:ext cx="2895120" cy="13330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Ограничение распространения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4" name="_s1034"/>
            <p:cNvSpPr/>
            <p:nvPr/>
          </p:nvSpPr>
          <p:spPr>
            <a:xfrm>
              <a:off x="5791680" y="4064040"/>
              <a:ext cx="911880" cy="44388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5" name="_s1035"/>
            <p:cNvSpPr/>
            <p:nvPr/>
          </p:nvSpPr>
          <p:spPr>
            <a:xfrm>
              <a:off x="6703560" y="4229640"/>
              <a:ext cx="2053080" cy="13334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Защита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6" name="_s1036"/>
            <p:cNvSpPr/>
            <p:nvPr/>
          </p:nvSpPr>
          <p:spPr>
            <a:xfrm flipV="1">
              <a:off x="5791680" y="2971800"/>
              <a:ext cx="761400" cy="34236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7" name="_s1037"/>
            <p:cNvSpPr/>
            <p:nvPr/>
          </p:nvSpPr>
          <p:spPr>
            <a:xfrm>
              <a:off x="6532560" y="1897920"/>
              <a:ext cx="2243880" cy="13334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Безопасность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8" name="_s1038"/>
            <p:cNvSpPr/>
            <p:nvPr/>
          </p:nvSpPr>
          <p:spPr>
            <a:xfrm flipV="1">
              <a:off x="4570560" y="2399040"/>
              <a:ext cx="0" cy="66636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9" name="_s1039"/>
            <p:cNvSpPr/>
            <p:nvPr/>
          </p:nvSpPr>
          <p:spPr>
            <a:xfrm>
              <a:off x="3503520" y="1092240"/>
              <a:ext cx="2053080" cy="149904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Verdana"/>
                </a:rPr>
                <a:t>Оповещения об инфекционных заболеваниях, эпиднадзор и меры реагирования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0" name="_s1040"/>
            <p:cNvSpPr/>
            <p:nvPr/>
          </p:nvSpPr>
          <p:spPr>
            <a:xfrm>
              <a:off x="3621240" y="3066120"/>
              <a:ext cx="2052360" cy="133344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31" name="Rectangle 24"/>
          <p:cNvSpPr/>
          <p:nvPr/>
        </p:nvSpPr>
        <p:spPr>
          <a:xfrm>
            <a:off x="457200" y="457200"/>
            <a:ext cx="8458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Verdana"/>
              </a:rPr>
              <a:t>Удовлетворение потребностей населе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Text Box 26"/>
          <p:cNvSpPr/>
          <p:nvPr/>
        </p:nvSpPr>
        <p:spPr>
          <a:xfrm>
            <a:off x="3048120" y="2895480"/>
            <a:ext cx="2973240" cy="16891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Verdana"/>
              </a:rPr>
              <a:t>Лаборатор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Требования клиентов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4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7F2DB-7075-4434-8C91-8E2EBB501F8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C8A23-C606-4AC2-9D48-8B3177CC10C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Text Box 4"/>
          <p:cNvSpPr/>
          <p:nvPr/>
        </p:nvSpPr>
        <p:spPr>
          <a:xfrm>
            <a:off x="838080" y="1523880"/>
            <a:ext cx="7543800" cy="140940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Verdana"/>
              </a:rPr>
              <a:t>Лаборатория проверена и аккредитована в соответствии с высшими стандартам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38" name="Group 9"/>
          <p:cNvGrpSpPr/>
          <p:nvPr/>
        </p:nvGrpSpPr>
        <p:grpSpPr>
          <a:xfrm>
            <a:off x="1066680" y="3048120"/>
            <a:ext cx="3123000" cy="3045600"/>
            <a:chOff x="1066680" y="3048120"/>
            <a:chExt cx="3123000" cy="3045600"/>
          </a:xfrm>
        </p:grpSpPr>
        <p:grpSp>
          <p:nvGrpSpPr>
            <p:cNvPr id="339" name="Group 10"/>
            <p:cNvGrpSpPr/>
            <p:nvPr/>
          </p:nvGrpSpPr>
          <p:grpSpPr>
            <a:xfrm>
              <a:off x="1066680" y="3048120"/>
              <a:ext cx="3123000" cy="3045600"/>
              <a:chOff x="1066680" y="3048120"/>
              <a:chExt cx="3123000" cy="3045600"/>
            </a:xfrm>
          </p:grpSpPr>
          <p:sp>
            <p:nvSpPr>
              <p:cNvPr id="340" name="Rectangle 11"/>
              <p:cNvSpPr/>
              <p:nvPr/>
            </p:nvSpPr>
            <p:spPr>
              <a:xfrm>
                <a:off x="1066680" y="3048120"/>
                <a:ext cx="3123000" cy="30456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9900"/>
                  </a:gs>
                </a:gsLst>
                <a:path path="rect">
                  <a:fillToRect l="50000" t="50000" r="50000" b="50000"/>
                </a:path>
              </a:gradFill>
              <a:ln w="88920">
                <a:solidFill>
                  <a:srgbClr val="9933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41" name="WordArt 12"/>
              <p:cNvSpPr txBox="1"/>
              <p:nvPr/>
            </p:nvSpPr>
            <p:spPr>
              <a:xfrm>
                <a:off x="1301040" y="3555360"/>
                <a:ext cx="2653920" cy="152280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ArchUp">
                  <a:avLst>
                    <a:gd name="adj" fmla="val 10800011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1" strike="noStrike">
                    <a:ln w="9360">
                      <a:solidFill>
                        <a:srgbClr val="000000"/>
                      </a:solidFill>
                      <a:miter/>
                    </a:ln>
                    <a:blipFill rotWithShape="0">
                      <a:blip r:embed="rId1"/>
                      <a:srcRect/>
                      <a:stretch/>
                    </a:blipFill>
                    <a:latin typeface="Verdana"/>
                  </a:rPr>
                  <a:t>АККРЕДИТАЦИЯ</a:t>
                </a:r>
                <a:endParaRPr b="0" lang="en-US" sz="32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2"/>
                    <a:srcRect/>
                    <a:stretch/>
                  </a:blipFill>
                  <a:latin typeface="Verdana"/>
                  <a:ea typeface="Verdana"/>
                </a:endParaRPr>
              </a:p>
            </p:txBody>
          </p:sp>
        </p:grpSp>
        <p:sp>
          <p:nvSpPr>
            <p:cNvPr id="342" name="Text Box 13"/>
            <p:cNvSpPr/>
            <p:nvPr/>
          </p:nvSpPr>
          <p:spPr>
            <a:xfrm>
              <a:off x="1918800" y="3809520"/>
              <a:ext cx="1419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07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3" name="Text Box 14"/>
            <p:cNvSpPr/>
            <p:nvPr/>
          </p:nvSpPr>
          <p:spPr>
            <a:xfrm>
              <a:off x="1587600" y="4746600"/>
              <a:ext cx="2117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ПЕРВИЧНАЯ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44" name="AutoShape 15"/>
          <p:cNvSpPr/>
          <p:nvPr/>
        </p:nvSpPr>
        <p:spPr>
          <a:xfrm>
            <a:off x="3124080" y="5105520"/>
            <a:ext cx="914400" cy="838080"/>
          </a:xfrm>
          <a:custGeom>
            <a:avLst/>
            <a:gdLst>
              <a:gd name="textAreaLeft" fmla="*/ 208800 w 914400"/>
              <a:gd name="textAreaRight" fmla="*/ 705600 w 914400"/>
              <a:gd name="textAreaTop" fmla="*/ 191160 h 838080"/>
              <a:gd name="textAreaBottom" fmla="*/ 64692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45" name="Group 16"/>
          <p:cNvGrpSpPr/>
          <p:nvPr/>
        </p:nvGrpSpPr>
        <p:grpSpPr>
          <a:xfrm>
            <a:off x="4724280" y="3048120"/>
            <a:ext cx="3198960" cy="3045600"/>
            <a:chOff x="4724280" y="3048120"/>
            <a:chExt cx="3198960" cy="3045600"/>
          </a:xfrm>
        </p:grpSpPr>
        <p:grpSp>
          <p:nvGrpSpPr>
            <p:cNvPr id="346" name="Group 17"/>
            <p:cNvGrpSpPr/>
            <p:nvPr/>
          </p:nvGrpSpPr>
          <p:grpSpPr>
            <a:xfrm>
              <a:off x="4724280" y="3048120"/>
              <a:ext cx="3198960" cy="3045600"/>
              <a:chOff x="4724280" y="3048120"/>
              <a:chExt cx="3198960" cy="3045600"/>
            </a:xfrm>
          </p:grpSpPr>
          <p:sp>
            <p:nvSpPr>
              <p:cNvPr id="347" name="Rectangle 18"/>
              <p:cNvSpPr/>
              <p:nvPr/>
            </p:nvSpPr>
            <p:spPr>
              <a:xfrm>
                <a:off x="4724280" y="3048120"/>
                <a:ext cx="3198960" cy="3045600"/>
              </a:xfrm>
              <a:prstGeom prst="rect">
                <a:avLst/>
              </a:prstGeom>
              <a:solidFill>
                <a:srgbClr val="ffff00"/>
              </a:solidFill>
              <a:ln w="88920">
                <a:solidFill>
                  <a:srgbClr val="9933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48" name="WordArt 19"/>
              <p:cNvSpPr txBox="1"/>
              <p:nvPr/>
            </p:nvSpPr>
            <p:spPr>
              <a:xfrm>
                <a:off x="4964400" y="3555360"/>
                <a:ext cx="2718360" cy="152280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ArchUp">
                  <a:avLst>
                    <a:gd name="adj" fmla="val 10800011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00"/>
                    </a:solidFill>
                    <a:latin typeface="Verdana"/>
                  </a:rPr>
                  <a:t>АККРЕДИТАЦИЯ</a:t>
                </a:r>
                <a:endParaRPr b="0" lang="en-US" sz="3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00"/>
                  </a:solidFill>
                  <a:latin typeface="Verdana"/>
                  <a:ea typeface="Verdana"/>
                </a:endParaRPr>
              </a:p>
            </p:txBody>
          </p:sp>
        </p:grpSp>
        <p:sp>
          <p:nvSpPr>
            <p:cNvPr id="349" name="Text Box 20"/>
            <p:cNvSpPr/>
            <p:nvPr/>
          </p:nvSpPr>
          <p:spPr>
            <a:xfrm>
              <a:off x="5682960" y="3809520"/>
              <a:ext cx="1448640" cy="6426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08, 2009, 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10…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0" name="Text Box 21"/>
            <p:cNvSpPr/>
            <p:nvPr/>
          </p:nvSpPr>
          <p:spPr>
            <a:xfrm>
              <a:off x="4934160" y="4645800"/>
              <a:ext cx="2779560" cy="8254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Поддержание статуса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51" name="AutoShape 28"/>
          <p:cNvSpPr/>
          <p:nvPr/>
        </p:nvSpPr>
        <p:spPr>
          <a:xfrm>
            <a:off x="6934320" y="5105520"/>
            <a:ext cx="914400" cy="914400"/>
          </a:xfrm>
          <a:custGeom>
            <a:avLst/>
            <a:gdLst>
              <a:gd name="textAreaLeft" fmla="*/ 208800 w 914400"/>
              <a:gd name="textAreaRight" fmla="*/ 705600 w 91440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DC6DB-977F-43A9-952C-83934E5C62C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B7BB4-DDA2-4C2A-A2B7-67AA4B02784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Цели изучен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560" y="1312560"/>
            <a:ext cx="8762760" cy="455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 окончании данной части курса участники смогут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ыделить разные категории клиентов лаборатори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зработать методы измерения удовлетворенности клиент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бсудить потенциальные проблемы с клиентам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едложить решения проблем в обслуживании клиент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бсудить, как процессы управления качеством помогают лаборатории удовлетворить потребности и требования клиент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4780C-4650-4A04-B2E9-3582EF18CDA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C6522-670E-4CCB-A22A-A95495ABF42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/>
          </p:nvPr>
        </p:nvSpPr>
        <p:spPr>
          <a:xfrm>
            <a:off x="457200" y="2666880"/>
            <a:ext cx="8305920" cy="317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Хорошее обслуживание клиентов предоставит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ажную информацию для наилучшего лече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ажную информацию для улучшения эпиднадзор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фессиональный имидж лаборатор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Text Box 8"/>
          <p:cNvSpPr/>
          <p:nvPr/>
        </p:nvSpPr>
        <p:spPr>
          <a:xfrm>
            <a:off x="457200" y="609480"/>
            <a:ext cx="8305920" cy="1556280"/>
          </a:xfrm>
          <a:prstGeom prst="rect">
            <a:avLst/>
          </a:prstGeom>
          <a:solidFill>
            <a:srgbClr val="00007d"/>
          </a:solidFill>
          <a:ln w="7632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Verdana"/>
              </a:rPr>
              <a:t>Обслуживание клиентов – неотъемлемая часть системы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Verdana"/>
              </a:rPr>
              <a:t>Методы оценки удовлетворенности клиентов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8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DAF3D-75AF-4230-B11B-EEA64A3A89F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2AC8A-3F75-43E3-8321-5E1E3BE405C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61" name="Diagram 5"/>
          <p:cNvGrpSpPr/>
          <p:nvPr/>
        </p:nvGrpSpPr>
        <p:grpSpPr>
          <a:xfrm>
            <a:off x="306360" y="1517760"/>
            <a:ext cx="8230320" cy="4547880"/>
            <a:chOff x="306360" y="1517760"/>
            <a:chExt cx="8230320" cy="4547880"/>
          </a:xfrm>
        </p:grpSpPr>
        <p:sp>
          <p:nvSpPr>
            <p:cNvPr id="362" name="_s2052"/>
            <p:cNvSpPr/>
            <p:nvPr/>
          </p:nvSpPr>
          <p:spPr>
            <a:xfrm flipH="1" flipV="1">
              <a:off x="2360160" y="2872800"/>
              <a:ext cx="1126440" cy="4813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3" name="_s2053"/>
            <p:cNvSpPr/>
            <p:nvPr/>
          </p:nvSpPr>
          <p:spPr>
            <a:xfrm>
              <a:off x="306360" y="1955160"/>
              <a:ext cx="3035880" cy="109260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00"/>
                  </a:solidFill>
                  <a:latin typeface="Verdana"/>
                </a:rPr>
                <a:t>устные опросы, фокус-группы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4" name="_s2054"/>
            <p:cNvSpPr/>
            <p:nvPr/>
          </p:nvSpPr>
          <p:spPr>
            <a:xfrm flipH="1">
              <a:off x="2837880" y="3962160"/>
              <a:ext cx="1049040" cy="4568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5" name="_s2055"/>
            <p:cNvSpPr/>
            <p:nvPr/>
          </p:nvSpPr>
          <p:spPr>
            <a:xfrm>
              <a:off x="306360" y="4278960"/>
              <a:ext cx="3885120" cy="9478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00"/>
                  </a:solidFill>
                  <a:latin typeface="Verdana"/>
                </a:rPr>
                <a:t>анкетирование удовлетворенности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6" name="_s2056"/>
            <p:cNvSpPr/>
            <p:nvPr/>
          </p:nvSpPr>
          <p:spPr>
            <a:xfrm>
              <a:off x="4570920" y="3962160"/>
              <a:ext cx="151920" cy="13712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7" name="_s2057"/>
            <p:cNvSpPr/>
            <p:nvPr/>
          </p:nvSpPr>
          <p:spPr>
            <a:xfrm>
              <a:off x="3342240" y="5199480"/>
              <a:ext cx="2828520" cy="86616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00"/>
                  </a:solidFill>
                  <a:latin typeface="Verdana"/>
                </a:rPr>
                <a:t>анализ руководством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8" name="_s2058"/>
            <p:cNvSpPr/>
            <p:nvPr/>
          </p:nvSpPr>
          <p:spPr>
            <a:xfrm>
              <a:off x="5257440" y="3962160"/>
              <a:ext cx="1068840" cy="442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9" name="_s2059"/>
            <p:cNvSpPr/>
            <p:nvPr/>
          </p:nvSpPr>
          <p:spPr>
            <a:xfrm>
              <a:off x="5879880" y="4188600"/>
              <a:ext cx="2656800" cy="103824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00"/>
                  </a:solidFill>
                  <a:latin typeface="Verdana"/>
                </a:rPr>
                <a:t>внутренний аудит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0" name="_s2060"/>
            <p:cNvSpPr/>
            <p:nvPr/>
          </p:nvSpPr>
          <p:spPr>
            <a:xfrm flipV="1">
              <a:off x="5430240" y="2971440"/>
              <a:ext cx="1045080" cy="5155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1" name="_s2061"/>
            <p:cNvSpPr/>
            <p:nvPr/>
          </p:nvSpPr>
          <p:spPr>
            <a:xfrm>
              <a:off x="5961240" y="2121480"/>
              <a:ext cx="2575440" cy="103824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00"/>
                  </a:solidFill>
                  <a:latin typeface="Verdana"/>
                </a:rPr>
                <a:t>показатели качества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2" name="_s2062"/>
            <p:cNvSpPr/>
            <p:nvPr/>
          </p:nvSpPr>
          <p:spPr>
            <a:xfrm flipV="1">
              <a:off x="4533120" y="2209320"/>
              <a:ext cx="0" cy="970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3" name="_s2063"/>
            <p:cNvSpPr/>
            <p:nvPr/>
          </p:nvSpPr>
          <p:spPr>
            <a:xfrm>
              <a:off x="3534840" y="1517760"/>
              <a:ext cx="2071080" cy="8740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00"/>
                  </a:solidFill>
                  <a:latin typeface="Verdana"/>
                </a:rPr>
                <a:t>жалобы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4" name="_s2064"/>
            <p:cNvSpPr/>
            <p:nvPr/>
          </p:nvSpPr>
          <p:spPr>
            <a:xfrm>
              <a:off x="2360520" y="2971440"/>
              <a:ext cx="4344840" cy="1124640"/>
            </a:xfrm>
            <a:prstGeom prst="ellipse">
              <a:avLst/>
            </a:prstGeom>
            <a:solidFill>
              <a:srgbClr val="00007d"/>
            </a:solidFill>
            <a:ln w="7632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00"/>
                  </a:solidFill>
                  <a:latin typeface="Verdana"/>
                </a:rPr>
                <a:t>отслеживание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F6101-7485-42BF-8E53-9BDAFD0A691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6D4B1-BC2D-4BA8-8B60-FB46519946D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8" name="Picture 6" descr="MPj0400492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04920" y="1828800"/>
            <a:ext cx="8534160" cy="4419720"/>
          </a:xfrm>
          <a:prstGeom prst="rect">
            <a:avLst/>
          </a:prstGeom>
          <a:ln w="0">
            <a:noFill/>
          </a:ln>
        </p:spPr>
      </p:pic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олученные жалобы отражают лишь «верхушку айсберга»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80" name="Picture 11" descr="MCSO00600_0000[1]"/>
          <p:cNvPicPr/>
          <p:nvPr/>
        </p:nvPicPr>
        <p:blipFill>
          <a:blip r:embed="rId2"/>
          <a:stretch/>
        </p:blipFill>
        <p:spPr>
          <a:xfrm>
            <a:off x="990720" y="1828800"/>
            <a:ext cx="7162560" cy="26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1C519-6F6C-4496-B4F4-E8AEC5B7FFE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3" name="Picture 14" descr="MCPE01538_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80880" y="2514600"/>
            <a:ext cx="2200320" cy="3733920"/>
          </a:xfrm>
          <a:prstGeom prst="rect">
            <a:avLst/>
          </a:prstGeom>
          <a:ln w="0">
            <a:noFill/>
          </a:ln>
        </p:spPr>
      </p:pic>
      <p:sp>
        <p:nvSpPr>
          <p:cNvPr id="38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AF545-2D87-4134-9A18-FB592E163BB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914040" y="1066320"/>
            <a:ext cx="25909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Жалобы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151920" y="2757240"/>
            <a:ext cx="3962520" cy="16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7d"/>
                </a:solidFill>
                <a:latin typeface="Verdana"/>
              </a:rPr>
              <a:t>Фактически недовольные клиенты</a:t>
            </a:r>
            <a:r>
              <a:rPr b="1" lang="en-US" sz="3400" spc="-1" strike="noStrike">
                <a:solidFill>
                  <a:srgbClr val="00007d"/>
                </a:solidFill>
                <a:latin typeface="Verdana"/>
              </a:rPr>
              <a:t>!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7" name="Picture 8" descr="14_under_iceberg"/>
          <p:cNvPicPr/>
          <p:nvPr/>
        </p:nvPicPr>
        <p:blipFill>
          <a:blip r:embed="rId2"/>
          <a:stretch/>
        </p:blipFill>
        <p:spPr>
          <a:xfrm>
            <a:off x="4495680" y="457200"/>
            <a:ext cx="4189680" cy="5638680"/>
          </a:xfrm>
          <a:prstGeom prst="rect">
            <a:avLst/>
          </a:prstGeom>
          <a:ln w="0">
            <a:noFill/>
          </a:ln>
        </p:spPr>
      </p:pic>
      <p:sp>
        <p:nvSpPr>
          <p:cNvPr id="388" name="AutoShape 9"/>
          <p:cNvSpPr/>
          <p:nvPr/>
        </p:nvSpPr>
        <p:spPr>
          <a:xfrm>
            <a:off x="3200400" y="1066680"/>
            <a:ext cx="2362320" cy="838440"/>
          </a:xfrm>
          <a:custGeom>
            <a:avLst/>
            <a:gdLst>
              <a:gd name="textAreaLeft" fmla="*/ 295200 w 2362320"/>
              <a:gd name="textAreaRight" fmla="*/ 2067120 w 2362320"/>
              <a:gd name="textAreaTop" fmla="*/ 209520 h 838440"/>
              <a:gd name="textAreaBottom" fmla="*/ 628920 h 8384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AutoShape 10"/>
          <p:cNvSpPr/>
          <p:nvPr/>
        </p:nvSpPr>
        <p:spPr>
          <a:xfrm rot="5400000">
            <a:off x="3238200" y="2704680"/>
            <a:ext cx="3809880" cy="2667240"/>
          </a:xfrm>
          <a:custGeom>
            <a:avLst/>
            <a:gdLst>
              <a:gd name="textAreaLeft" fmla="*/ 380880 w 3809880"/>
              <a:gd name="textAreaRight" fmla="*/ 3429000 w 3809880"/>
              <a:gd name="textAreaTop" fmla="*/ 1524240 h 2667240"/>
              <a:gd name="textAreaBottom" fmla="*/ 2286360 h 266724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6480" y="6171"/>
                </a:lnTo>
                <a:lnTo>
                  <a:pt x="8640" y="6171"/>
                </a:lnTo>
                <a:lnTo>
                  <a:pt x="8640" y="12343"/>
                </a:lnTo>
                <a:lnTo>
                  <a:pt x="4320" y="12343"/>
                </a:lnTo>
                <a:lnTo>
                  <a:pt x="4320" y="9257"/>
                </a:lnTo>
                <a:lnTo>
                  <a:pt x="0" y="15429"/>
                </a:lnTo>
                <a:lnTo>
                  <a:pt x="4320" y="21600"/>
                </a:lnTo>
                <a:lnTo>
                  <a:pt x="4320" y="18514"/>
                </a:lnTo>
                <a:lnTo>
                  <a:pt x="17280" y="18514"/>
                </a:lnTo>
                <a:lnTo>
                  <a:pt x="17280" y="21600"/>
                </a:lnTo>
                <a:lnTo>
                  <a:pt x="21600" y="15429"/>
                </a:lnTo>
                <a:lnTo>
                  <a:pt x="17280" y="9257"/>
                </a:lnTo>
                <a:lnTo>
                  <a:pt x="17280" y="12343"/>
                </a:lnTo>
                <a:lnTo>
                  <a:pt x="12960" y="12343"/>
                </a:lnTo>
                <a:lnTo>
                  <a:pt x="12960" y="6171"/>
                </a:lnTo>
                <a:lnTo>
                  <a:pt x="15120" y="6171"/>
                </a:lnTo>
                <a:lnTo>
                  <a:pt x="10800" y="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90" name="Picture 11" descr="MCj03343020000[1]"/>
          <p:cNvPicPr/>
          <p:nvPr/>
        </p:nvPicPr>
        <p:blipFill>
          <a:blip r:embed="rId4"/>
          <a:stretch/>
        </p:blipFill>
        <p:spPr>
          <a:xfrm>
            <a:off x="2133720" y="4419720"/>
            <a:ext cx="1176120" cy="181584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12" descr="MCj03262300000[1]"/>
          <p:cNvPicPr/>
          <p:nvPr/>
        </p:nvPicPr>
        <p:blipFill>
          <a:blip r:embed="rId5"/>
          <a:stretch/>
        </p:blipFill>
        <p:spPr>
          <a:xfrm>
            <a:off x="914400" y="4876920"/>
            <a:ext cx="1523880" cy="12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31076-BD4E-4172-B1E8-CE2D0F8595B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51055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Методы оценки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5" name="AutoShape 14"/>
          <p:cNvSpPr/>
          <p:nvPr/>
        </p:nvSpPr>
        <p:spPr>
          <a:xfrm>
            <a:off x="914400" y="1447920"/>
            <a:ext cx="3962520" cy="1066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99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Отслеживание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оказателей качеств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AutoShape 16"/>
          <p:cNvSpPr/>
          <p:nvPr/>
        </p:nvSpPr>
        <p:spPr>
          <a:xfrm>
            <a:off x="5334120" y="1143000"/>
            <a:ext cx="3352680" cy="2209680"/>
          </a:xfrm>
          <a:prstGeom prst="hexagon">
            <a:avLst>
              <a:gd name="adj" fmla="val 37932"/>
              <a:gd name="vf" fmla="val 115470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Text Box 17"/>
          <p:cNvSpPr/>
          <p:nvPr/>
        </p:nvSpPr>
        <p:spPr>
          <a:xfrm>
            <a:off x="5486400" y="1676520"/>
            <a:ext cx="3048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Проведение внутренних аудит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8" name="AutoShape 21"/>
          <p:cNvSpPr/>
          <p:nvPr/>
        </p:nvSpPr>
        <p:spPr>
          <a:xfrm rot="4216800">
            <a:off x="2411280" y="2757240"/>
            <a:ext cx="1444680" cy="990720"/>
          </a:xfrm>
          <a:custGeom>
            <a:avLst/>
            <a:gdLst>
              <a:gd name="textAreaLeft" fmla="*/ 225720 w 1444680"/>
              <a:gd name="textAreaRight" fmla="*/ 1264320 w 1444680"/>
              <a:gd name="textAreaTop" fmla="*/ 247680 h 990720"/>
              <a:gd name="textAreaBottom" fmla="*/ 743040 h 9907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9" name="AutoShape 22"/>
          <p:cNvSpPr/>
          <p:nvPr/>
        </p:nvSpPr>
        <p:spPr>
          <a:xfrm rot="6607200">
            <a:off x="4489920" y="2743920"/>
            <a:ext cx="1452240" cy="990360"/>
          </a:xfrm>
          <a:custGeom>
            <a:avLst/>
            <a:gdLst>
              <a:gd name="textAreaLeft" fmla="*/ 226800 w 1452240"/>
              <a:gd name="textAreaRight" fmla="*/ 1270800 w 1452240"/>
              <a:gd name="textAreaTop" fmla="*/ 247680 h 990360"/>
              <a:gd name="textAreaBottom" fmla="*/ 743040 h 990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0" name="AutoShape 23"/>
          <p:cNvSpPr/>
          <p:nvPr/>
        </p:nvSpPr>
        <p:spPr>
          <a:xfrm>
            <a:off x="1981080" y="3962520"/>
            <a:ext cx="4724640" cy="2133360"/>
          </a:xfrm>
          <a:prstGeom prst="downArrowCallout">
            <a:avLst>
              <a:gd name="adj1" fmla="val 55371"/>
              <a:gd name="adj2" fmla="val 55366"/>
              <a:gd name="adj3" fmla="val 16667"/>
              <a:gd name="adj4" fmla="val 66667"/>
            </a:avLst>
          </a:prstGeom>
          <a:solidFill>
            <a:srgbClr val="00007d"/>
          </a:solidFill>
          <a:ln w="7632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1" name="Text Box 24"/>
          <p:cNvSpPr/>
          <p:nvPr/>
        </p:nvSpPr>
        <p:spPr>
          <a:xfrm>
            <a:off x="2286000" y="4191120"/>
            <a:ext cx="426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Анализ руководством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Text Box 25"/>
          <p:cNvSpPr/>
          <p:nvPr/>
        </p:nvSpPr>
        <p:spPr>
          <a:xfrm>
            <a:off x="3581280" y="563868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Verdana"/>
              </a:rPr>
              <a:t>ДЕЙСТВИЯ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CA8F2-34EB-4397-B706-7F7436C8AE9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B8D0F-6C6F-4C6F-A1EE-27B99EFB729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/>
          </p:nvPr>
        </p:nvSpPr>
        <p:spPr>
          <a:xfrm>
            <a:off x="533160" y="990720"/>
            <a:ext cx="4343400" cy="49528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Изучение мнения клиентов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является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требованием системы управления качеством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ИСО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9001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07" name="Picture 3" descr=""/>
          <p:cNvPicPr/>
          <p:nvPr/>
        </p:nvPicPr>
        <p:blipFill>
          <a:blip r:embed="rId1"/>
          <a:stretch/>
        </p:blipFill>
        <p:spPr>
          <a:xfrm>
            <a:off x="5181480" y="609480"/>
            <a:ext cx="380844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Исследование мнения клиентов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9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0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2C0C8-C6B0-4F8D-8BD6-15A38B5FF8E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44F1A-86FF-4438-AAAD-2EDAB1D35DB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12" name="Diagram 5"/>
          <p:cNvGrpSpPr/>
          <p:nvPr/>
        </p:nvGrpSpPr>
        <p:grpSpPr>
          <a:xfrm>
            <a:off x="457200" y="1295280"/>
            <a:ext cx="8152560" cy="4876560"/>
            <a:chOff x="457200" y="1295280"/>
            <a:chExt cx="8152560" cy="4876560"/>
          </a:xfrm>
        </p:grpSpPr>
        <p:sp>
          <p:nvSpPr>
            <p:cNvPr id="413" name="AutoShape 4"/>
            <p:cNvSpPr/>
            <p:nvPr/>
          </p:nvSpPr>
          <p:spPr>
            <a:xfrm>
              <a:off x="457200" y="1295280"/>
              <a:ext cx="8152560" cy="487656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4" name="_s3076"/>
            <p:cNvSpPr/>
            <p:nvPr/>
          </p:nvSpPr>
          <p:spPr>
            <a:xfrm flipH="1" flipV="1">
              <a:off x="2668680" y="3356640"/>
              <a:ext cx="932400" cy="1868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5" name="_s3077"/>
            <p:cNvSpPr/>
            <p:nvPr/>
          </p:nvSpPr>
          <p:spPr>
            <a:xfrm>
              <a:off x="757800" y="2556000"/>
              <a:ext cx="1961280" cy="12193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своевременно проанализи-рованное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6" name="_s3078"/>
            <p:cNvSpPr/>
            <p:nvPr/>
          </p:nvSpPr>
          <p:spPr>
            <a:xfrm flipH="1">
              <a:off x="3382920" y="4225680"/>
              <a:ext cx="573120" cy="4935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7" name="_s3079"/>
            <p:cNvSpPr/>
            <p:nvPr/>
          </p:nvSpPr>
          <p:spPr>
            <a:xfrm>
              <a:off x="1219320" y="4600080"/>
              <a:ext cx="2381400" cy="12186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без наводящих вопросов, объективное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8" name="_s3080"/>
            <p:cNvSpPr/>
            <p:nvPr/>
          </p:nvSpPr>
          <p:spPr>
            <a:xfrm>
              <a:off x="5110560" y="4225680"/>
              <a:ext cx="576720" cy="4917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9" name="_s3081"/>
            <p:cNvSpPr/>
            <p:nvPr/>
          </p:nvSpPr>
          <p:spPr>
            <a:xfrm>
              <a:off x="5687640" y="4601880"/>
              <a:ext cx="2159640" cy="121932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заранее проверенное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0" name="_s3082"/>
            <p:cNvSpPr/>
            <p:nvPr/>
          </p:nvSpPr>
          <p:spPr>
            <a:xfrm flipV="1">
              <a:off x="5465880" y="3355200"/>
              <a:ext cx="932400" cy="188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1" name="_s3083"/>
            <p:cNvSpPr/>
            <p:nvPr/>
          </p:nvSpPr>
          <p:spPr>
            <a:xfrm>
              <a:off x="6261120" y="2558160"/>
              <a:ext cx="2271600" cy="12186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организованное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2" name="_s3084"/>
            <p:cNvSpPr/>
            <p:nvPr/>
          </p:nvSpPr>
          <p:spPr>
            <a:xfrm flipV="1">
              <a:off x="4533480" y="2514600"/>
              <a:ext cx="0" cy="609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3" name="_s3085"/>
            <p:cNvSpPr/>
            <p:nvPr/>
          </p:nvSpPr>
          <p:spPr>
            <a:xfrm>
              <a:off x="3553200" y="1295280"/>
              <a:ext cx="2617560" cy="12193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запланированное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4" name="_s3086"/>
            <p:cNvSpPr/>
            <p:nvPr/>
          </p:nvSpPr>
          <p:spPr>
            <a:xfrm>
              <a:off x="3553200" y="3123720"/>
              <a:ext cx="1960560" cy="121932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25" name="Text Box 19"/>
          <p:cNvSpPr/>
          <p:nvPr/>
        </p:nvSpPr>
        <p:spPr>
          <a:xfrm>
            <a:off x="3048120" y="2819520"/>
            <a:ext cx="3047760" cy="1556280"/>
          </a:xfrm>
          <a:prstGeom prst="rect">
            <a:avLst/>
          </a:prstGeom>
          <a:gradFill rotWithShape="0">
            <a:gsLst>
              <a:gs pos="0">
                <a:srgbClr val="00007d"/>
              </a:gs>
              <a:gs pos="50000">
                <a:srgbClr val="ffff00"/>
              </a:gs>
              <a:gs pos="100000">
                <a:srgbClr val="0000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Verdana"/>
              </a:rPr>
              <a:t>Успешное </a:t>
            </a: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исследован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7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3B216-823C-4535-A6A0-52438042CB0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8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B942F-675E-4056-8949-73F413DE409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оветы для устного опроса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6858000" cy="300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заранее напишите вопрос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задавайте конкретные вопросы, а также вопросы, в ответ на которые клиент может высказать свое мнение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будут искренние ответ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31" name="Picture 9" descr="MCj02955670000[1]"/>
          <p:cNvPicPr/>
          <p:nvPr/>
        </p:nvPicPr>
        <p:blipFill>
          <a:blip r:embed="rId1"/>
          <a:stretch/>
        </p:blipFill>
        <p:spPr>
          <a:xfrm>
            <a:off x="6324480" y="3276720"/>
            <a:ext cx="2713320" cy="3429000"/>
          </a:xfrm>
          <a:prstGeom prst="rect">
            <a:avLst/>
          </a:prstGeom>
          <a:ln w="0">
            <a:noFill/>
          </a:ln>
        </p:spPr>
      </p:pic>
      <p:sp>
        <p:nvSpPr>
          <p:cNvPr id="432" name="Text Box 8"/>
          <p:cNvSpPr/>
          <p:nvPr/>
        </p:nvSpPr>
        <p:spPr>
          <a:xfrm>
            <a:off x="533520" y="4495680"/>
            <a:ext cx="5410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3" name="Text Box 9"/>
          <p:cNvSpPr/>
          <p:nvPr/>
        </p:nvSpPr>
        <p:spPr>
          <a:xfrm>
            <a:off x="914400" y="4678200"/>
            <a:ext cx="5257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«Как мы можем улучшить обслуживание?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D5DB8-E8C5-480A-B336-E39B6CF3CEE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Фокус-группы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8458200" cy="434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и проведении обсуждения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 фокус-группах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спользуйте небольшие группы из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8–10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человек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ключите людей из разных социальных групп и с разными запросами к лаборатори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чните с вопросов, которые установят довер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зработайте рекомендации по отбору фокус-групп для сопоставимости результат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задавайте открытые вопросы, на которые клиент может высказать свое мнение, а не отвечать «Да» или «Нет»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38" name="Picture 9" descr="MCPE02097_0000[1]"/>
          <p:cNvPicPr/>
          <p:nvPr/>
        </p:nvPicPr>
        <p:blipFill>
          <a:blip r:embed="rId1"/>
          <a:srcRect l="0" t="0" r="10555" b="60635"/>
          <a:stretch/>
        </p:blipFill>
        <p:spPr>
          <a:xfrm>
            <a:off x="5268960" y="457200"/>
            <a:ext cx="3875040" cy="13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0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BE387-92D2-4E3B-80C9-EBA5FC780C5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1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C41A2-C35E-4B55-A1FB-415B63BBF4A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Измерение удовлетворенности клиентов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: 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возможности для улучшения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3" name="Rectangle 5"/>
          <p:cNvSpPr/>
          <p:nvPr/>
        </p:nvSpPr>
        <p:spPr>
          <a:xfrm>
            <a:off x="228600" y="1676520"/>
            <a:ext cx="8763120" cy="990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Verdana"/>
              </a:rPr>
              <a:t>Опросы</a:t>
            </a: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lang="ru-RU" sz="4000" spc="-1" strike="noStrike">
                <a:solidFill>
                  <a:srgbClr val="000000"/>
                </a:solidFill>
                <a:latin typeface="Verdana"/>
              </a:rPr>
              <a:t>показатели</a:t>
            </a: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lang="ru-RU" sz="4000" spc="-1" strike="noStrike">
                <a:solidFill>
                  <a:srgbClr val="000000"/>
                </a:solidFill>
                <a:latin typeface="Verdana"/>
              </a:rPr>
              <a:t>аудиты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4" name="AutoShape 6"/>
          <p:cNvSpPr/>
          <p:nvPr/>
        </p:nvSpPr>
        <p:spPr>
          <a:xfrm>
            <a:off x="4038480" y="2743200"/>
            <a:ext cx="914400" cy="5954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5" name="Rectangle 7"/>
          <p:cNvSpPr/>
          <p:nvPr/>
        </p:nvSpPr>
        <p:spPr>
          <a:xfrm>
            <a:off x="2743200" y="3352680"/>
            <a:ext cx="3481560" cy="6858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Verdana"/>
              </a:rPr>
              <a:t>Информация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6" name="AutoShape 9"/>
          <p:cNvSpPr/>
          <p:nvPr/>
        </p:nvSpPr>
        <p:spPr>
          <a:xfrm>
            <a:off x="685800" y="4495680"/>
            <a:ext cx="7924680" cy="1752840"/>
          </a:xfrm>
          <a:custGeom>
            <a:avLst/>
            <a:gdLst>
              <a:gd name="textAreaLeft" fmla="*/ 1981080 w 7924680"/>
              <a:gd name="textAreaRight" fmla="*/ 5943600 w 7924680"/>
              <a:gd name="textAreaTop" fmla="*/ 218880 h 1752840"/>
              <a:gd name="textAreaBottom" fmla="*/ 1753200 h 1752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Verdana"/>
              </a:rPr>
              <a:t>Улучшение процессов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7" name="AutoShape 10"/>
          <p:cNvSpPr/>
          <p:nvPr/>
        </p:nvSpPr>
        <p:spPr>
          <a:xfrm>
            <a:off x="4114800" y="4114800"/>
            <a:ext cx="838080" cy="5954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8" name="AutoShape 11"/>
          <p:cNvSpPr/>
          <p:nvPr/>
        </p:nvSpPr>
        <p:spPr>
          <a:xfrm rot="19654200">
            <a:off x="2157480" y="2735280"/>
            <a:ext cx="91440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9" name="AutoShape 12"/>
          <p:cNvSpPr/>
          <p:nvPr/>
        </p:nvSpPr>
        <p:spPr>
          <a:xfrm rot="2245200">
            <a:off x="5790960" y="2742840"/>
            <a:ext cx="1020600" cy="655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963D9-9C42-4D3F-A915-8C65CE83B5B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14B1F-43DF-407A-A931-32A75419825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итуац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2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екоторые клиенты пожаловались на значительные задержки в выдаче результатов анализов на ВИЧ. Вы убедились в том, что задержки были необоснованными, и устранили недостатки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Как вы можете восстановить доверие клиентов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1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6D277-C366-47F2-9E66-0F9E3C08FDB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2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D445B-FBD3-42EA-B79F-54801332C3D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/>
          </p:nvPr>
        </p:nvSpPr>
        <p:spPr>
          <a:xfrm>
            <a:off x="456840" y="609120"/>
            <a:ext cx="8077320" cy="29163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Verdana"/>
              </a:rPr>
              <a:t>Активная </a:t>
            </a:r>
            <a:br>
              <a:rPr sz="3200"/>
            </a:br>
            <a:r>
              <a:rPr b="0" lang="ru-RU" sz="3200" spc="-1" strike="noStrike">
                <a:solidFill>
                  <a:srgbClr val="ffff00"/>
                </a:solidFill>
                <a:latin typeface="Verdana"/>
              </a:rPr>
              <a:t>система управления качеством обеспечит удовлетворе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Verdana"/>
              </a:rPr>
              <a:t>потребностей </a:t>
            </a:r>
            <a:r>
              <a:rPr b="1" lang="ru-RU" sz="3200" spc="-1" strike="noStrike">
                <a:solidFill>
                  <a:srgbClr val="ffff00"/>
                </a:solidFill>
                <a:latin typeface="Verdana"/>
              </a:rPr>
              <a:t>всех клиентов </a:t>
            </a:r>
            <a:r>
              <a:rPr b="0" lang="ru-RU" sz="3200" spc="-1" strike="noStrike">
                <a:solidFill>
                  <a:srgbClr val="ffff00"/>
                </a:solidFill>
                <a:latin typeface="Verdana"/>
              </a:rPr>
              <a:t>лаборатори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54" name="Picture 9" descr="14_pub_health"/>
          <p:cNvPicPr/>
          <p:nvPr/>
        </p:nvPicPr>
        <p:blipFill>
          <a:blip r:embed="rId1"/>
          <a:stretch/>
        </p:blipFill>
        <p:spPr>
          <a:xfrm>
            <a:off x="5638680" y="3505320"/>
            <a:ext cx="2905200" cy="264924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455" name="Picture 11" descr="elderly_patient_doc"/>
          <p:cNvPicPr/>
          <p:nvPr/>
        </p:nvPicPr>
        <p:blipFill>
          <a:blip r:embed="rId2"/>
          <a:srcRect l="0" t="0" r="0" b="15533"/>
          <a:stretch/>
        </p:blipFill>
        <p:spPr>
          <a:xfrm>
            <a:off x="533520" y="3505320"/>
            <a:ext cx="2554200" cy="266688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456" name="Picture 7" descr="mom_baby"/>
          <p:cNvPicPr/>
          <p:nvPr/>
        </p:nvPicPr>
        <p:blipFill>
          <a:blip r:embed="rId3"/>
          <a:stretch/>
        </p:blipFill>
        <p:spPr>
          <a:xfrm>
            <a:off x="2971800" y="3962520"/>
            <a:ext cx="2762280" cy="198576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8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E4CFC-5D27-4DAD-99DC-C56739A1956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9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CD550-DDB4-4206-B33A-F4BD6AA933F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ыводы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81880" cy="474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служивание клиентов – неотъемлемая часть системы управления качеством. Важно, чтобы лаборатория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активно участвовала в этом процесс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водила планирование и отслеживан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нала и понимала клиентов и их потребност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ыделяла ресурсы для этой программ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сновные выводы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380880" y="1219320"/>
            <a:ext cx="8763120" cy="45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Удовлетворение потребностей клиентов является основной целью лаборатории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Активная система управления качеством в лаборатории обеспечит удовлетворение потребностей всех клиент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Каждый сотрудник лаборатории несет ответственность за качество и, как следствие, за обслуживание клиент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Slide Number Placeholder 4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0F30A-CF6B-44E3-AEB0-6EB86CB2F12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Footer Placeholder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7" name="Slide Number Placeholder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4EC66-2C8F-49FA-B702-68778A9AFDF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105520" y="1218960"/>
            <a:ext cx="4038480" cy="19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Вопросы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Комментарии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469" name="Group 99"/>
          <p:cNvGrpSpPr/>
          <p:nvPr/>
        </p:nvGrpSpPr>
        <p:grpSpPr>
          <a:xfrm>
            <a:off x="264960" y="1143000"/>
            <a:ext cx="4700880" cy="4708440"/>
            <a:chOff x="264960" y="1143000"/>
            <a:chExt cx="4700880" cy="4708440"/>
          </a:xfrm>
        </p:grpSpPr>
        <p:sp>
          <p:nvSpPr>
            <p:cNvPr id="470" name="AutoShape 4"/>
            <p:cNvSpPr/>
            <p:nvPr/>
          </p:nvSpPr>
          <p:spPr>
            <a:xfrm>
              <a:off x="264960" y="1143000"/>
              <a:ext cx="4700880" cy="4708440"/>
            </a:xfrm>
            <a:custGeom>
              <a:avLst/>
              <a:gdLst>
                <a:gd name="textAreaLeft" fmla="*/ 229320 w 4700880"/>
                <a:gd name="textAreaRight" fmla="*/ 4471560 w 4700880"/>
                <a:gd name="textAreaTop" fmla="*/ 229320 h 4708440"/>
                <a:gd name="textAreaBottom" fmla="*/ 4479120 h 4708440"/>
              </a:gdLst>
              <a:ahLst/>
              <a:rect l="textAreaLeft" t="textAreaTop" r="textAreaRight" b="textAreaBottom"/>
              <a:pathLst>
                <a:path w="21600" h="21635">
                  <a:moveTo>
                    <a:pt x="3600" y="0"/>
                  </a:moveTo>
                  <a:arcTo wR="3600" hR="3600" stAng="16200000" swAng="-5400000"/>
                  <a:lnTo>
                    <a:pt x="0" y="18035"/>
                  </a:lnTo>
                  <a:arcTo wR="3600" hR="3600" stAng="10800000" swAng="-5400000"/>
                  <a:lnTo>
                    <a:pt x="18000" y="2163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1" name="Freeform 9"/>
            <p:cNvSpPr/>
            <p:nvPr/>
          </p:nvSpPr>
          <p:spPr>
            <a:xfrm>
              <a:off x="2301120" y="3621240"/>
              <a:ext cx="109080" cy="6336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2" name="Freeform 10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3" name="Freeform 11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4" name="Freeform 12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5" name="Freeform 13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6" name="Freeform 16"/>
            <p:cNvSpPr/>
            <p:nvPr/>
          </p:nvSpPr>
          <p:spPr>
            <a:xfrm>
              <a:off x="1062720" y="3062880"/>
              <a:ext cx="152280" cy="9936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7" name="Freeform 22"/>
            <p:cNvSpPr/>
            <p:nvPr/>
          </p:nvSpPr>
          <p:spPr>
            <a:xfrm>
              <a:off x="1052640" y="3007800"/>
              <a:ext cx="155160" cy="3456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8" name="Line 24"/>
            <p:cNvSpPr/>
            <p:nvPr/>
          </p:nvSpPr>
          <p:spPr>
            <a:xfrm flipH="1" flipV="1">
              <a:off x="2673000" y="5500440"/>
              <a:ext cx="10080" cy="403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9" name="Line 25"/>
            <p:cNvSpPr/>
            <p:nvPr/>
          </p:nvSpPr>
          <p:spPr>
            <a:xfrm flipV="1">
              <a:off x="2435040" y="4480920"/>
              <a:ext cx="1440" cy="907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0" name="Line 27"/>
            <p:cNvSpPr/>
            <p:nvPr/>
          </p:nvSpPr>
          <p:spPr>
            <a:xfrm>
              <a:off x="4066920" y="1722600"/>
              <a:ext cx="1440" cy="35676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1" name="Line 27"/>
            <p:cNvSpPr/>
            <p:nvPr/>
          </p:nvSpPr>
          <p:spPr>
            <a:xfrm>
              <a:off x="2615040" y="1861200"/>
              <a:ext cx="144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2" name="Line 27"/>
            <p:cNvSpPr/>
            <p:nvPr/>
          </p:nvSpPr>
          <p:spPr>
            <a:xfrm>
              <a:off x="1094400" y="1904400"/>
              <a:ext cx="108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3" name="Line 27"/>
            <p:cNvSpPr/>
            <p:nvPr/>
          </p:nvSpPr>
          <p:spPr>
            <a:xfrm flipH="1">
              <a:off x="817200" y="1764360"/>
              <a:ext cx="356148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84" name="Group 65"/>
            <p:cNvGrpSpPr/>
            <p:nvPr/>
          </p:nvGrpSpPr>
          <p:grpSpPr>
            <a:xfrm>
              <a:off x="541080" y="1223640"/>
              <a:ext cx="1144440" cy="1035360"/>
              <a:chOff x="541080" y="1223640"/>
              <a:chExt cx="1144440" cy="1035360"/>
            </a:xfrm>
          </p:grpSpPr>
          <p:grpSp>
            <p:nvGrpSpPr>
              <p:cNvPr id="485" name="Group 66"/>
              <p:cNvGrpSpPr/>
              <p:nvPr/>
            </p:nvGrpSpPr>
            <p:grpSpPr>
              <a:xfrm>
                <a:off x="541080" y="1223640"/>
                <a:ext cx="1123920" cy="1035360"/>
                <a:chOff x="541080" y="1223640"/>
                <a:chExt cx="1123920" cy="1035360"/>
              </a:xfrm>
            </p:grpSpPr>
            <p:grpSp>
              <p:nvGrpSpPr>
                <p:cNvPr id="486" name="Group 67"/>
                <p:cNvGrpSpPr/>
                <p:nvPr/>
              </p:nvGrpSpPr>
              <p:grpSpPr>
                <a:xfrm>
                  <a:off x="587880" y="1223640"/>
                  <a:ext cx="1045440" cy="1035360"/>
                  <a:chOff x="587880" y="1223640"/>
                  <a:chExt cx="1045440" cy="1035360"/>
                </a:xfrm>
              </p:grpSpPr>
              <p:sp>
                <p:nvSpPr>
                  <p:cNvPr id="487" name="Freeform 68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488" name="Freeform 69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489" name="Text Box 70"/>
                <p:cNvSpPr/>
                <p:nvPr/>
              </p:nvSpPr>
              <p:spPr>
                <a:xfrm>
                  <a:off x="541080" y="1462320"/>
                  <a:ext cx="1123920" cy="24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490" name="Text Box 71"/>
              <p:cNvSpPr/>
              <p:nvPr/>
            </p:nvSpPr>
            <p:spPr>
              <a:xfrm>
                <a:off x="561600" y="1593000"/>
                <a:ext cx="1123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91" name="Group 72"/>
            <p:cNvGrpSpPr/>
            <p:nvPr/>
          </p:nvGrpSpPr>
          <p:grpSpPr>
            <a:xfrm>
              <a:off x="2043360" y="1223640"/>
              <a:ext cx="1124640" cy="1035360"/>
              <a:chOff x="2043360" y="1223640"/>
              <a:chExt cx="1124640" cy="1035360"/>
            </a:xfrm>
          </p:grpSpPr>
          <p:sp>
            <p:nvSpPr>
              <p:cNvPr id="492" name="Freeform 73"/>
              <p:cNvSpPr/>
              <p:nvPr/>
            </p:nvSpPr>
            <p:spPr>
              <a:xfrm>
                <a:off x="2080440" y="1223640"/>
                <a:ext cx="1046160" cy="1035360"/>
              </a:xfrm>
              <a:custGeom>
                <a:avLst/>
                <a:gdLst>
                  <a:gd name="textAreaLeft" fmla="*/ 0 w 1046160"/>
                  <a:gd name="textAreaRight" fmla="*/ 1046520 w 104616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93" name="Text Box 74"/>
              <p:cNvSpPr/>
              <p:nvPr/>
            </p:nvSpPr>
            <p:spPr>
              <a:xfrm>
                <a:off x="2043360" y="159300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94" name="Group 75"/>
            <p:cNvGrpSpPr/>
            <p:nvPr/>
          </p:nvGrpSpPr>
          <p:grpSpPr>
            <a:xfrm>
              <a:off x="3495240" y="1223640"/>
              <a:ext cx="1124640" cy="1035360"/>
              <a:chOff x="3495240" y="1223640"/>
              <a:chExt cx="1124640" cy="1035360"/>
            </a:xfrm>
          </p:grpSpPr>
          <p:grpSp>
            <p:nvGrpSpPr>
              <p:cNvPr id="495" name="Group 76"/>
              <p:cNvGrpSpPr/>
              <p:nvPr/>
            </p:nvGrpSpPr>
            <p:grpSpPr>
              <a:xfrm>
                <a:off x="3536280" y="1223640"/>
                <a:ext cx="1046160" cy="1035360"/>
                <a:chOff x="3536280" y="1223640"/>
                <a:chExt cx="1046160" cy="1035360"/>
              </a:xfrm>
            </p:grpSpPr>
            <p:sp>
              <p:nvSpPr>
                <p:cNvPr id="496" name="Freeform 77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97" name="Freeform 78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498" name="Text Box 79"/>
              <p:cNvSpPr/>
              <p:nvPr/>
            </p:nvSpPr>
            <p:spPr>
              <a:xfrm>
                <a:off x="3495240" y="159552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99" name="Line 27"/>
            <p:cNvSpPr/>
            <p:nvPr/>
          </p:nvSpPr>
          <p:spPr>
            <a:xfrm flipH="1">
              <a:off x="886680" y="294192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00" name="Group 130"/>
            <p:cNvGrpSpPr/>
            <p:nvPr/>
          </p:nvGrpSpPr>
          <p:grpSpPr>
            <a:xfrm>
              <a:off x="541080" y="2389320"/>
              <a:ext cx="1052640" cy="1035360"/>
              <a:chOff x="541080" y="2389320"/>
              <a:chExt cx="1052640" cy="1035360"/>
            </a:xfrm>
          </p:grpSpPr>
          <p:sp>
            <p:nvSpPr>
              <p:cNvPr id="501" name="Freeform 46"/>
              <p:cNvSpPr/>
              <p:nvPr/>
            </p:nvSpPr>
            <p:spPr>
              <a:xfrm>
                <a:off x="545040" y="2389320"/>
                <a:ext cx="1048320" cy="1035360"/>
              </a:xfrm>
              <a:custGeom>
                <a:avLst/>
                <a:gdLst>
                  <a:gd name="textAreaLeft" fmla="*/ 0 w 1048320"/>
                  <a:gd name="textAreaRight" fmla="*/ 1048680 w 104832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02" name="Text Box 47"/>
              <p:cNvSpPr/>
              <p:nvPr/>
            </p:nvSpPr>
            <p:spPr>
              <a:xfrm>
                <a:off x="541080" y="2654280"/>
                <a:ext cx="1052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000"/>
                </a:b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503" name="Freeform 31"/>
            <p:cNvSpPr/>
            <p:nvPr/>
          </p:nvSpPr>
          <p:spPr>
            <a:xfrm>
              <a:off x="2088000" y="2443680"/>
              <a:ext cx="1045800" cy="1037160"/>
            </a:xfrm>
            <a:custGeom>
              <a:avLst/>
              <a:gdLst>
                <a:gd name="textAreaLeft" fmla="*/ 0 w 1045800"/>
                <a:gd name="textAreaRight" fmla="*/ 1046160 w 104580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4" name="Text Box 43"/>
            <p:cNvSpPr/>
            <p:nvPr/>
          </p:nvSpPr>
          <p:spPr>
            <a:xfrm>
              <a:off x="2092320" y="2739960"/>
              <a:ext cx="10422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05" name="Group 135"/>
            <p:cNvGrpSpPr/>
            <p:nvPr/>
          </p:nvGrpSpPr>
          <p:grpSpPr>
            <a:xfrm>
              <a:off x="3489480" y="2404800"/>
              <a:ext cx="1159200" cy="1035360"/>
              <a:chOff x="3489480" y="2404800"/>
              <a:chExt cx="1159200" cy="1035360"/>
            </a:xfrm>
          </p:grpSpPr>
          <p:sp>
            <p:nvSpPr>
              <p:cNvPr id="506" name="Freeform 48"/>
              <p:cNvSpPr/>
              <p:nvPr/>
            </p:nvSpPr>
            <p:spPr>
              <a:xfrm>
                <a:off x="3513960" y="240480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07" name="Text Box 55"/>
              <p:cNvSpPr/>
              <p:nvPr/>
            </p:nvSpPr>
            <p:spPr>
              <a:xfrm>
                <a:off x="3489480" y="2741040"/>
                <a:ext cx="11592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508" name="Line 27"/>
            <p:cNvSpPr/>
            <p:nvPr/>
          </p:nvSpPr>
          <p:spPr>
            <a:xfrm flipH="1">
              <a:off x="817200" y="405108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09" name="Group 139"/>
            <p:cNvGrpSpPr/>
            <p:nvPr/>
          </p:nvGrpSpPr>
          <p:grpSpPr>
            <a:xfrm>
              <a:off x="541080" y="3572280"/>
              <a:ext cx="1092960" cy="1036800"/>
              <a:chOff x="541080" y="3572280"/>
              <a:chExt cx="1092960" cy="1036800"/>
            </a:xfrm>
          </p:grpSpPr>
          <p:sp>
            <p:nvSpPr>
              <p:cNvPr id="510" name="Freeform 81"/>
              <p:cNvSpPr/>
              <p:nvPr/>
            </p:nvSpPr>
            <p:spPr>
              <a:xfrm>
                <a:off x="569880" y="3572280"/>
                <a:ext cx="1046520" cy="1036800"/>
              </a:xfrm>
              <a:custGeom>
                <a:avLst/>
                <a:gdLst>
                  <a:gd name="textAreaLeft" fmla="*/ 0 w 1046520"/>
                  <a:gd name="textAreaRight" fmla="*/ 1046880 w 104652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11" name="Text Box 82"/>
              <p:cNvSpPr/>
              <p:nvPr/>
            </p:nvSpPr>
            <p:spPr>
              <a:xfrm>
                <a:off x="541080" y="3852000"/>
                <a:ext cx="10929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512" name="Group 142"/>
            <p:cNvGrpSpPr/>
            <p:nvPr/>
          </p:nvGrpSpPr>
          <p:grpSpPr>
            <a:xfrm>
              <a:off x="2043360" y="3572280"/>
              <a:ext cx="1124640" cy="1036800"/>
              <a:chOff x="2043360" y="3572280"/>
              <a:chExt cx="1124640" cy="1036800"/>
            </a:xfrm>
          </p:grpSpPr>
          <p:sp>
            <p:nvSpPr>
              <p:cNvPr id="513" name="Freeform 30"/>
              <p:cNvSpPr/>
              <p:nvPr/>
            </p:nvSpPr>
            <p:spPr>
              <a:xfrm>
                <a:off x="2067840" y="3572280"/>
                <a:ext cx="1046880" cy="103680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14" name="Text Box 54"/>
              <p:cNvSpPr/>
              <p:nvPr/>
            </p:nvSpPr>
            <p:spPr>
              <a:xfrm>
                <a:off x="2043360" y="3791520"/>
                <a:ext cx="1124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515" name="Freeform 50"/>
            <p:cNvSpPr/>
            <p:nvPr/>
          </p:nvSpPr>
          <p:spPr>
            <a:xfrm>
              <a:off x="3513960" y="3566160"/>
              <a:ext cx="1046880" cy="1037160"/>
            </a:xfrm>
            <a:custGeom>
              <a:avLst/>
              <a:gdLst>
                <a:gd name="textAreaLeft" fmla="*/ 0 w 1046880"/>
                <a:gd name="textAreaRight" fmla="*/ 1047240 w 104688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6" name="Text Box 51"/>
            <p:cNvSpPr/>
            <p:nvPr/>
          </p:nvSpPr>
          <p:spPr>
            <a:xfrm>
              <a:off x="3485160" y="3941640"/>
              <a:ext cx="1124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7" name="Line 27"/>
            <p:cNvSpPr/>
            <p:nvPr/>
          </p:nvSpPr>
          <p:spPr>
            <a:xfrm flipH="1">
              <a:off x="886680" y="522684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18" name="Group 148"/>
            <p:cNvGrpSpPr/>
            <p:nvPr/>
          </p:nvGrpSpPr>
          <p:grpSpPr>
            <a:xfrm>
              <a:off x="564120" y="4746240"/>
              <a:ext cx="1121760" cy="1035360"/>
              <a:chOff x="564120" y="4746240"/>
              <a:chExt cx="1121760" cy="1035360"/>
            </a:xfrm>
          </p:grpSpPr>
          <p:sp>
            <p:nvSpPr>
              <p:cNvPr id="519" name="Freeform 57"/>
              <p:cNvSpPr/>
              <p:nvPr/>
            </p:nvSpPr>
            <p:spPr>
              <a:xfrm>
                <a:off x="606960" y="4746240"/>
                <a:ext cx="1045440" cy="103536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20" name="Text Box 58"/>
              <p:cNvSpPr/>
              <p:nvPr/>
            </p:nvSpPr>
            <p:spPr>
              <a:xfrm>
                <a:off x="564120" y="5027760"/>
                <a:ext cx="11217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521" name="Group 151"/>
            <p:cNvGrpSpPr/>
            <p:nvPr/>
          </p:nvGrpSpPr>
          <p:grpSpPr>
            <a:xfrm>
              <a:off x="2043360" y="4686840"/>
              <a:ext cx="1124640" cy="1035720"/>
              <a:chOff x="2043360" y="4686840"/>
              <a:chExt cx="1124640" cy="1035720"/>
            </a:xfrm>
          </p:grpSpPr>
          <p:sp>
            <p:nvSpPr>
              <p:cNvPr id="522" name="Freeform 34"/>
              <p:cNvSpPr/>
              <p:nvPr/>
            </p:nvSpPr>
            <p:spPr>
              <a:xfrm>
                <a:off x="2087640" y="4686840"/>
                <a:ext cx="1045440" cy="103572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720"/>
                  <a:gd name="textAreaBottom" fmla="*/ 1036080 h 10357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23" name="Text Box 61"/>
              <p:cNvSpPr/>
              <p:nvPr/>
            </p:nvSpPr>
            <p:spPr>
              <a:xfrm>
                <a:off x="2043360" y="5027400"/>
                <a:ext cx="112464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524" name="Group 154"/>
            <p:cNvGrpSpPr/>
            <p:nvPr/>
          </p:nvGrpSpPr>
          <p:grpSpPr>
            <a:xfrm>
              <a:off x="3485160" y="4746240"/>
              <a:ext cx="1159200" cy="1035360"/>
              <a:chOff x="3485160" y="4746240"/>
              <a:chExt cx="1159200" cy="1035360"/>
            </a:xfrm>
          </p:grpSpPr>
          <p:sp>
            <p:nvSpPr>
              <p:cNvPr id="525" name="Freeform 63"/>
              <p:cNvSpPr/>
              <p:nvPr/>
            </p:nvSpPr>
            <p:spPr>
              <a:xfrm>
                <a:off x="3530880" y="474624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26" name="Text Box 64"/>
              <p:cNvSpPr/>
              <p:nvPr/>
            </p:nvSpPr>
            <p:spPr>
              <a:xfrm>
                <a:off x="3485160" y="4967640"/>
                <a:ext cx="11592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9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62"/>
          <p:cNvSpPr/>
          <p:nvPr/>
        </p:nvSpPr>
        <p:spPr>
          <a:xfrm>
            <a:off x="990720" y="41112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истема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5" name="Group 99"/>
          <p:cNvGrpSpPr/>
          <p:nvPr/>
        </p:nvGrpSpPr>
        <p:grpSpPr>
          <a:xfrm>
            <a:off x="1486080" y="1066680"/>
            <a:ext cx="6171840" cy="5181480"/>
            <a:chOff x="1486080" y="1066680"/>
            <a:chExt cx="6171840" cy="5181480"/>
          </a:xfrm>
        </p:grpSpPr>
        <p:sp>
          <p:nvSpPr>
            <p:cNvPr id="126" name="AutoShape 4"/>
            <p:cNvSpPr/>
            <p:nvPr/>
          </p:nvSpPr>
          <p:spPr>
            <a:xfrm>
              <a:off x="1486080" y="1066680"/>
              <a:ext cx="6171840" cy="518148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7" name="Freeform 9"/>
            <p:cNvSpPr/>
            <p:nvPr/>
          </p:nvSpPr>
          <p:spPr>
            <a:xfrm>
              <a:off x="4159800" y="3794040"/>
              <a:ext cx="143640" cy="69840"/>
            </a:xfrm>
            <a:custGeom>
              <a:avLst/>
              <a:gdLst>
                <a:gd name="textAreaLeft" fmla="*/ 0 w 143640"/>
                <a:gd name="textAreaRight" fmla="*/ 144000 w 1436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8" name="Freeform 10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9" name="Freeform 11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0" name="Freeform 12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1" name="Freeform 13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2" name="Freeform 16"/>
            <p:cNvSpPr/>
            <p:nvPr/>
          </p:nvSpPr>
          <p:spPr>
            <a:xfrm>
              <a:off x="2533680" y="3179520"/>
              <a:ext cx="200160" cy="10944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3" name="Freeform 22"/>
            <p:cNvSpPr/>
            <p:nvPr/>
          </p:nvSpPr>
          <p:spPr>
            <a:xfrm>
              <a:off x="2520360" y="3119040"/>
              <a:ext cx="204120" cy="38160"/>
            </a:xfrm>
            <a:custGeom>
              <a:avLst/>
              <a:gdLst>
                <a:gd name="textAreaLeft" fmla="*/ 0 w 204120"/>
                <a:gd name="textAreaRight" fmla="*/ 204480 w 2041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4" name="Line 24"/>
            <p:cNvSpPr/>
            <p:nvPr/>
          </p:nvSpPr>
          <p:spPr>
            <a:xfrm flipH="1" flipV="1">
              <a:off x="4647600" y="5862240"/>
              <a:ext cx="12960" cy="446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5" name="Line 25"/>
            <p:cNvSpPr/>
            <p:nvPr/>
          </p:nvSpPr>
          <p:spPr>
            <a:xfrm flipV="1">
              <a:off x="4335480" y="4740120"/>
              <a:ext cx="1800" cy="1000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6" name="Line 27"/>
            <p:cNvSpPr/>
            <p:nvPr/>
          </p:nvSpPr>
          <p:spPr>
            <a:xfrm>
              <a:off x="6477840" y="1704600"/>
              <a:ext cx="1800" cy="39261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7" name="Line 27"/>
            <p:cNvSpPr/>
            <p:nvPr/>
          </p:nvSpPr>
          <p:spPr>
            <a:xfrm>
              <a:off x="4571640" y="1857240"/>
              <a:ext cx="180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Line 27"/>
            <p:cNvSpPr/>
            <p:nvPr/>
          </p:nvSpPr>
          <p:spPr>
            <a:xfrm>
              <a:off x="2575080" y="1904760"/>
              <a:ext cx="144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 flipH="1">
              <a:off x="2211480" y="1750680"/>
              <a:ext cx="467604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40" name="Group 65"/>
            <p:cNvGrpSpPr/>
            <p:nvPr/>
          </p:nvGrpSpPr>
          <p:grpSpPr>
            <a:xfrm>
              <a:off x="1848600" y="1155600"/>
              <a:ext cx="1503000" cy="1139760"/>
              <a:chOff x="1848600" y="1155600"/>
              <a:chExt cx="1503000" cy="1139760"/>
            </a:xfrm>
          </p:grpSpPr>
          <p:grpSp>
            <p:nvGrpSpPr>
              <p:cNvPr id="141" name="Group 66"/>
              <p:cNvGrpSpPr/>
              <p:nvPr/>
            </p:nvGrpSpPr>
            <p:grpSpPr>
              <a:xfrm>
                <a:off x="1848600" y="1155600"/>
                <a:ext cx="1475640" cy="1139760"/>
                <a:chOff x="1848600" y="1155600"/>
                <a:chExt cx="1475640" cy="1139760"/>
              </a:xfrm>
            </p:grpSpPr>
            <p:grpSp>
              <p:nvGrpSpPr>
                <p:cNvPr id="142" name="Group 67"/>
                <p:cNvGrpSpPr/>
                <p:nvPr/>
              </p:nvGrpSpPr>
              <p:grpSpPr>
                <a:xfrm>
                  <a:off x="1909800" y="1155600"/>
                  <a:ext cx="1372320" cy="1139760"/>
                  <a:chOff x="1909800" y="1155600"/>
                  <a:chExt cx="1372320" cy="1139760"/>
                </a:xfrm>
              </p:grpSpPr>
              <p:sp>
                <p:nvSpPr>
                  <p:cNvPr id="143" name="Freeform 68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44" name="Freeform 69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145" name="Text Box 70"/>
                <p:cNvSpPr/>
                <p:nvPr/>
              </p:nvSpPr>
              <p:spPr>
                <a:xfrm>
                  <a:off x="1848600" y="1418400"/>
                  <a:ext cx="1475640" cy="36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46" name="Text Box 71"/>
              <p:cNvSpPr/>
              <p:nvPr/>
            </p:nvSpPr>
            <p:spPr>
              <a:xfrm>
                <a:off x="1875600" y="1628640"/>
                <a:ext cx="1476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47" name="Group 72"/>
            <p:cNvGrpSpPr/>
            <p:nvPr/>
          </p:nvGrpSpPr>
          <p:grpSpPr>
            <a:xfrm>
              <a:off x="3821400" y="1155600"/>
              <a:ext cx="1476360" cy="1139760"/>
              <a:chOff x="3821400" y="1155600"/>
              <a:chExt cx="1476360" cy="1139760"/>
            </a:xfrm>
          </p:grpSpPr>
          <p:sp>
            <p:nvSpPr>
              <p:cNvPr id="148" name="Freeform 73"/>
              <p:cNvSpPr/>
              <p:nvPr/>
            </p:nvSpPr>
            <p:spPr>
              <a:xfrm>
                <a:off x="3870000" y="1155600"/>
                <a:ext cx="1373400" cy="1139760"/>
              </a:xfrm>
              <a:custGeom>
                <a:avLst/>
                <a:gdLst>
                  <a:gd name="textAreaLeft" fmla="*/ 0 w 1373400"/>
                  <a:gd name="textAreaRight" fmla="*/ 1373760 w 137340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9" name="Text Box 74"/>
              <p:cNvSpPr/>
              <p:nvPr/>
            </p:nvSpPr>
            <p:spPr>
              <a:xfrm>
                <a:off x="3821400" y="162864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50" name="Group 75"/>
            <p:cNvGrpSpPr/>
            <p:nvPr/>
          </p:nvGrpSpPr>
          <p:grpSpPr>
            <a:xfrm>
              <a:off x="5727600" y="1155600"/>
              <a:ext cx="1476360" cy="1139760"/>
              <a:chOff x="5727600" y="1155600"/>
              <a:chExt cx="1476360" cy="1139760"/>
            </a:xfrm>
          </p:grpSpPr>
          <p:grpSp>
            <p:nvGrpSpPr>
              <p:cNvPr id="151" name="Group 76"/>
              <p:cNvGrpSpPr/>
              <p:nvPr/>
            </p:nvGrpSpPr>
            <p:grpSpPr>
              <a:xfrm>
                <a:off x="5781600" y="1155600"/>
                <a:ext cx="1373040" cy="1139760"/>
                <a:chOff x="5781600" y="1155600"/>
                <a:chExt cx="1373040" cy="1139760"/>
              </a:xfrm>
            </p:grpSpPr>
            <p:sp>
              <p:nvSpPr>
                <p:cNvPr id="152" name="Freeform 77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3" name="Freeform 78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54" name="Text Box 79"/>
              <p:cNvSpPr/>
              <p:nvPr/>
            </p:nvSpPr>
            <p:spPr>
              <a:xfrm>
                <a:off x="5727600" y="162936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55" name="Line 27"/>
            <p:cNvSpPr/>
            <p:nvPr/>
          </p:nvSpPr>
          <p:spPr>
            <a:xfrm flipH="1">
              <a:off x="2302560" y="30463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56" name="Group 130"/>
            <p:cNvGrpSpPr/>
            <p:nvPr/>
          </p:nvGrpSpPr>
          <p:grpSpPr>
            <a:xfrm>
              <a:off x="1848600" y="2438280"/>
              <a:ext cx="1382040" cy="1139760"/>
              <a:chOff x="1848600" y="2438280"/>
              <a:chExt cx="1382040" cy="1139760"/>
            </a:xfrm>
          </p:grpSpPr>
          <p:sp>
            <p:nvSpPr>
              <p:cNvPr id="157" name="Freeform 46"/>
              <p:cNvSpPr/>
              <p:nvPr/>
            </p:nvSpPr>
            <p:spPr>
              <a:xfrm>
                <a:off x="1854000" y="2438280"/>
                <a:ext cx="1376640" cy="1139760"/>
              </a:xfrm>
              <a:custGeom>
                <a:avLst/>
                <a:gdLst>
                  <a:gd name="textAreaLeft" fmla="*/ 0 w 1376640"/>
                  <a:gd name="textAreaRight" fmla="*/ 1377000 w 137664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8" name="Text Box 47"/>
              <p:cNvSpPr/>
              <p:nvPr/>
            </p:nvSpPr>
            <p:spPr>
              <a:xfrm>
                <a:off x="1848600" y="2713320"/>
                <a:ext cx="13820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200"/>
                </a:b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59" name="Freeform 31"/>
            <p:cNvSpPr/>
            <p:nvPr/>
          </p:nvSpPr>
          <p:spPr>
            <a:xfrm>
              <a:off x="3879720" y="2498400"/>
              <a:ext cx="1373040" cy="1141560"/>
            </a:xfrm>
            <a:custGeom>
              <a:avLst/>
              <a:gdLst>
                <a:gd name="textAreaLeft" fmla="*/ 0 w 1373040"/>
                <a:gd name="textAreaRight" fmla="*/ 1373400 w 137304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0" name="Text Box 43"/>
            <p:cNvSpPr/>
            <p:nvPr/>
          </p:nvSpPr>
          <p:spPr>
            <a:xfrm>
              <a:off x="3885480" y="2815920"/>
              <a:ext cx="1368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61" name="Group 135"/>
            <p:cNvGrpSpPr/>
            <p:nvPr/>
          </p:nvGrpSpPr>
          <p:grpSpPr>
            <a:xfrm>
              <a:off x="5751720" y="2455560"/>
              <a:ext cx="1393200" cy="1139760"/>
              <a:chOff x="5751720" y="2455560"/>
              <a:chExt cx="1393200" cy="1139760"/>
            </a:xfrm>
          </p:grpSpPr>
          <p:sp>
            <p:nvSpPr>
              <p:cNvPr id="162" name="Freeform 48"/>
              <p:cNvSpPr/>
              <p:nvPr/>
            </p:nvSpPr>
            <p:spPr>
              <a:xfrm>
                <a:off x="5751720" y="245556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3" name="Text Box 55"/>
              <p:cNvSpPr/>
              <p:nvPr/>
            </p:nvSpPr>
            <p:spPr>
              <a:xfrm>
                <a:off x="5759280" y="2818440"/>
                <a:ext cx="13856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4" name="Line 27"/>
            <p:cNvSpPr/>
            <p:nvPr/>
          </p:nvSpPr>
          <p:spPr>
            <a:xfrm flipH="1">
              <a:off x="2211480" y="426708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65" name="Group 139"/>
            <p:cNvGrpSpPr/>
            <p:nvPr/>
          </p:nvGrpSpPr>
          <p:grpSpPr>
            <a:xfrm>
              <a:off x="1848600" y="3740040"/>
              <a:ext cx="1434600" cy="1141200"/>
              <a:chOff x="1848600" y="3740040"/>
              <a:chExt cx="1434600" cy="1141200"/>
            </a:xfrm>
          </p:grpSpPr>
          <p:sp>
            <p:nvSpPr>
              <p:cNvPr id="166" name="Freeform 81"/>
              <p:cNvSpPr/>
              <p:nvPr/>
            </p:nvSpPr>
            <p:spPr>
              <a:xfrm>
                <a:off x="1886400" y="3740040"/>
                <a:ext cx="1373760" cy="1141200"/>
              </a:xfrm>
              <a:custGeom>
                <a:avLst/>
                <a:gdLst>
                  <a:gd name="textAreaLeft" fmla="*/ 0 w 1373760"/>
                  <a:gd name="textAreaRight" fmla="*/ 1373760 w 137376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7" name="Text Box 82"/>
              <p:cNvSpPr/>
              <p:nvPr/>
            </p:nvSpPr>
            <p:spPr>
              <a:xfrm>
                <a:off x="1848600" y="4039920"/>
                <a:ext cx="1434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68" name="Group 142"/>
            <p:cNvGrpSpPr/>
            <p:nvPr/>
          </p:nvGrpSpPr>
          <p:grpSpPr>
            <a:xfrm>
              <a:off x="3798720" y="3740040"/>
              <a:ext cx="1476360" cy="1141200"/>
              <a:chOff x="3798720" y="3740040"/>
              <a:chExt cx="1476360" cy="1141200"/>
            </a:xfrm>
          </p:grpSpPr>
          <p:sp>
            <p:nvSpPr>
              <p:cNvPr id="169" name="Freeform 30"/>
              <p:cNvSpPr/>
              <p:nvPr/>
            </p:nvSpPr>
            <p:spPr>
              <a:xfrm>
                <a:off x="3853440" y="3740040"/>
                <a:ext cx="1374480" cy="114120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0" name="Text Box 54"/>
              <p:cNvSpPr/>
              <p:nvPr/>
            </p:nvSpPr>
            <p:spPr>
              <a:xfrm>
                <a:off x="3798720" y="396432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71" name="Freeform 50"/>
            <p:cNvSpPr/>
            <p:nvPr/>
          </p:nvSpPr>
          <p:spPr>
            <a:xfrm>
              <a:off x="5751720" y="3733560"/>
              <a:ext cx="1374480" cy="1141560"/>
            </a:xfrm>
            <a:custGeom>
              <a:avLst/>
              <a:gdLst>
                <a:gd name="textAreaLeft" fmla="*/ 0 w 1374480"/>
                <a:gd name="textAreaRight" fmla="*/ 1374840 w 137448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2" name="Text Box 51"/>
            <p:cNvSpPr/>
            <p:nvPr/>
          </p:nvSpPr>
          <p:spPr>
            <a:xfrm>
              <a:off x="5706360" y="4143240"/>
              <a:ext cx="14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3" name="Line 27"/>
            <p:cNvSpPr/>
            <p:nvPr/>
          </p:nvSpPr>
          <p:spPr>
            <a:xfrm flipH="1">
              <a:off x="2302560" y="55609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74" name="Group 148"/>
            <p:cNvGrpSpPr/>
            <p:nvPr/>
          </p:nvGrpSpPr>
          <p:grpSpPr>
            <a:xfrm>
              <a:off x="1879200" y="5032080"/>
              <a:ext cx="1472400" cy="1139760"/>
              <a:chOff x="1879200" y="5032080"/>
              <a:chExt cx="1472400" cy="1139760"/>
            </a:xfrm>
          </p:grpSpPr>
          <p:sp>
            <p:nvSpPr>
              <p:cNvPr id="175" name="Freeform 57"/>
              <p:cNvSpPr/>
              <p:nvPr/>
            </p:nvSpPr>
            <p:spPr>
              <a:xfrm>
                <a:off x="1935720" y="5032080"/>
                <a:ext cx="1372680" cy="113976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6" name="Text Box 58"/>
              <p:cNvSpPr/>
              <p:nvPr/>
            </p:nvSpPr>
            <p:spPr>
              <a:xfrm>
                <a:off x="1879200" y="5333040"/>
                <a:ext cx="14724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77" name="Group 151"/>
            <p:cNvGrpSpPr/>
            <p:nvPr/>
          </p:nvGrpSpPr>
          <p:grpSpPr>
            <a:xfrm>
              <a:off x="3821400" y="4966920"/>
              <a:ext cx="1476360" cy="1140120"/>
              <a:chOff x="3821400" y="4966920"/>
              <a:chExt cx="1476360" cy="1140120"/>
            </a:xfrm>
          </p:grpSpPr>
          <p:sp>
            <p:nvSpPr>
              <p:cNvPr id="178" name="Freeform 34"/>
              <p:cNvSpPr/>
              <p:nvPr/>
            </p:nvSpPr>
            <p:spPr>
              <a:xfrm>
                <a:off x="3879360" y="4966920"/>
                <a:ext cx="1372680" cy="114012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40120"/>
                  <a:gd name="textAreaBottom" fmla="*/ 1140480 h 11401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9" name="Text Box 61"/>
              <p:cNvSpPr/>
              <p:nvPr/>
            </p:nvSpPr>
            <p:spPr>
              <a:xfrm>
                <a:off x="3821400" y="5333040"/>
                <a:ext cx="14763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80" name="Group 154"/>
            <p:cNvGrpSpPr/>
            <p:nvPr/>
          </p:nvGrpSpPr>
          <p:grpSpPr>
            <a:xfrm>
              <a:off x="5759640" y="5032080"/>
              <a:ext cx="1476360" cy="1139760"/>
              <a:chOff x="5759640" y="5032080"/>
              <a:chExt cx="1476360" cy="1139760"/>
            </a:xfrm>
          </p:grpSpPr>
          <p:sp>
            <p:nvSpPr>
              <p:cNvPr id="181" name="Freeform 63"/>
              <p:cNvSpPr/>
              <p:nvPr/>
            </p:nvSpPr>
            <p:spPr>
              <a:xfrm>
                <a:off x="5774400" y="503208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2" name="Text Box 64"/>
              <p:cNvSpPr/>
              <p:nvPr/>
            </p:nvSpPr>
            <p:spPr>
              <a:xfrm>
                <a:off x="5759640" y="523440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183" name="Footer Placeholder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9A637-6909-4F39-81EB-7F772EF1720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BD23B-9654-4421-A094-E8506348634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70D2D-33BB-46B0-A773-86D26F28593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8" name="Picture 4" descr="Philip Crosby photo"/>
          <p:cNvPicPr/>
          <p:nvPr/>
        </p:nvPicPr>
        <p:blipFill>
          <a:blip r:embed="rId1"/>
          <a:stretch/>
        </p:blipFill>
        <p:spPr>
          <a:xfrm>
            <a:off x="6781680" y="2057400"/>
            <a:ext cx="1994040" cy="2590920"/>
          </a:xfrm>
          <a:prstGeom prst="rect">
            <a:avLst/>
          </a:prstGeom>
          <a:ln w="0">
            <a:noFill/>
          </a:ln>
        </p:spPr>
      </p:pic>
      <p:sp>
        <p:nvSpPr>
          <p:cNvPr id="189" name="Text Box 5"/>
          <p:cNvSpPr/>
          <p:nvPr/>
        </p:nvSpPr>
        <p:spPr>
          <a:xfrm>
            <a:off x="2819520" y="4876920"/>
            <a:ext cx="5943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Филип Кросб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Verdana"/>
              </a:rPr>
              <a:t>Четыре принципа управления качеством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979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Text Box 6"/>
          <p:cNvSpPr/>
          <p:nvPr/>
        </p:nvSpPr>
        <p:spPr>
          <a:xfrm>
            <a:off x="380880" y="2661840"/>
            <a:ext cx="6248520" cy="15562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Verdana"/>
                <a:ea typeface="Arial"/>
              </a:rPr>
              <a:t>Качество – это удовлетворение </a:t>
            </a:r>
            <a:r>
              <a:rPr b="1" lang="ru-RU" sz="3200" spc="-1" strike="noStrike">
                <a:solidFill>
                  <a:srgbClr val="ffff00"/>
                </a:solidFill>
                <a:latin typeface="Verdana"/>
                <a:ea typeface="Arial"/>
              </a:rPr>
              <a:t>потребностей клиентов</a:t>
            </a:r>
            <a:r>
              <a:rPr b="0" lang="en-US" sz="3200" spc="-1" strike="noStrike">
                <a:solidFill>
                  <a:srgbClr val="ffff00"/>
                </a:solidFill>
                <a:latin typeface="Verdana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C4192-5AA6-492F-9380-359A9F64E6D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11305-9EAB-4AFD-96BF-D52FABC3D76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Verdana"/>
              </a:rPr>
              <a:t>Кто отвечает за обслуживание клиента</a:t>
            </a: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95" name="Picture 5" descr="7285_lores"/>
          <p:cNvPicPr/>
          <p:nvPr/>
        </p:nvPicPr>
        <p:blipFill>
          <a:blip r:embed="rId1"/>
          <a:srcRect l="34886" t="0" r="17443" b="0"/>
          <a:stretch/>
        </p:blipFill>
        <p:spPr>
          <a:xfrm>
            <a:off x="5316480" y="1295280"/>
            <a:ext cx="3141720" cy="449604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8" descr="uniocular_mic_cdc"/>
          <p:cNvPicPr/>
          <p:nvPr/>
        </p:nvPicPr>
        <p:blipFill>
          <a:blip r:embed="rId2"/>
          <a:srcRect l="2557" t="8365" r="7671" b="13383"/>
          <a:stretch/>
        </p:blipFill>
        <p:spPr>
          <a:xfrm>
            <a:off x="3581280" y="4267080"/>
            <a:ext cx="1752840" cy="20574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3" descr="bifocal_microscope_07_cdc"/>
          <p:cNvPicPr/>
          <p:nvPr/>
        </p:nvPicPr>
        <p:blipFill>
          <a:blip r:embed="rId3"/>
          <a:stretch/>
        </p:blipFill>
        <p:spPr>
          <a:xfrm>
            <a:off x="457200" y="1295280"/>
            <a:ext cx="3352680" cy="23320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7" descr="equip_calibrate"/>
          <p:cNvPicPr/>
          <p:nvPr/>
        </p:nvPicPr>
        <p:blipFill>
          <a:blip r:embed="rId4"/>
          <a:srcRect l="0" t="0" r="26971" b="0"/>
          <a:stretch/>
        </p:blipFill>
        <p:spPr>
          <a:xfrm>
            <a:off x="457200" y="3276720"/>
            <a:ext cx="3276720" cy="304776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4" descr="PHIL_2104_lores"/>
          <p:cNvPicPr/>
          <p:nvPr/>
        </p:nvPicPr>
        <p:blipFill>
          <a:blip r:embed="rId5"/>
          <a:stretch/>
        </p:blipFill>
        <p:spPr>
          <a:xfrm>
            <a:off x="3276720" y="1295280"/>
            <a:ext cx="2590560" cy="198144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17" descr="6216_thumb"/>
          <p:cNvPicPr/>
          <p:nvPr/>
        </p:nvPicPr>
        <p:blipFill>
          <a:blip r:embed="rId6"/>
          <a:stretch/>
        </p:blipFill>
        <p:spPr>
          <a:xfrm>
            <a:off x="5334120" y="4800600"/>
            <a:ext cx="1752480" cy="152100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8" descr="5753_lores"/>
          <p:cNvPicPr/>
          <p:nvPr/>
        </p:nvPicPr>
        <p:blipFill>
          <a:blip r:embed="rId7"/>
          <a:srcRect l="0" t="0" r="45258" b="30162"/>
          <a:stretch/>
        </p:blipFill>
        <p:spPr>
          <a:xfrm>
            <a:off x="7010280" y="3962520"/>
            <a:ext cx="1447920" cy="2361960"/>
          </a:xfrm>
          <a:prstGeom prst="rect">
            <a:avLst/>
          </a:prstGeom>
          <a:ln w="0">
            <a:noFill/>
          </a:ln>
        </p:spPr>
      </p:pic>
      <p:sp>
        <p:nvSpPr>
          <p:cNvPr id="202" name="AutoShape 15"/>
          <p:cNvSpPr/>
          <p:nvPr/>
        </p:nvSpPr>
        <p:spPr>
          <a:xfrm>
            <a:off x="1981080" y="2895480"/>
            <a:ext cx="5334120" cy="1981440"/>
          </a:xfrm>
          <a:custGeom>
            <a:avLst/>
            <a:gdLst>
              <a:gd name="textAreaLeft" fmla="*/ 1196640 w 5334120"/>
              <a:gd name="textAreaRight" fmla="*/ 4137480 w 5334120"/>
              <a:gd name="textAreaTop" fmla="*/ 0 h 1981440"/>
              <a:gd name="textAreaBottom" fmla="*/ 1733760 h 1981440"/>
            </a:gdLst>
            <a:ahLst/>
            <a:rect l="textAreaLeft" t="textAreaTop" r="textAreaRight" b="textAreaBottom"/>
            <a:pathLst>
              <a:path w="21600" h="21600">
                <a:moveTo>
                  <a:pt x="7546" y="18900"/>
                </a:moveTo>
                <a:lnTo>
                  <a:pt x="7546" y="20925"/>
                </a:lnTo>
                <a:cubicBezTo>
                  <a:pt x="7546" y="21263"/>
                  <a:pt x="7126" y="21600"/>
                  <a:pt x="6706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4846" y="2700"/>
                </a:lnTo>
                <a:lnTo>
                  <a:pt x="4846" y="675"/>
                </a:lnTo>
                <a:cubicBezTo>
                  <a:pt x="4846" y="338"/>
                  <a:pt x="5266" y="0"/>
                  <a:pt x="5686" y="0"/>
                </a:cubicBezTo>
                <a:lnTo>
                  <a:pt x="15914" y="0"/>
                </a:lnTo>
                <a:cubicBezTo>
                  <a:pt x="16334" y="0"/>
                  <a:pt x="16754" y="338"/>
                  <a:pt x="16754" y="675"/>
                </a:cubicBezTo>
                <a:lnTo>
                  <a:pt x="16754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894" y="21600"/>
                </a:lnTo>
                <a:cubicBezTo>
                  <a:pt x="14474" y="21600"/>
                  <a:pt x="14054" y="21263"/>
                  <a:pt x="14054" y="20925"/>
                </a:cubicBezTo>
                <a:lnTo>
                  <a:pt x="14054" y="18900"/>
                </a:lnTo>
                <a:close/>
              </a:path>
              <a:path fill="darkenLess" w="21600" h="21600">
                <a:moveTo>
                  <a:pt x="7546" y="18900"/>
                </a:moveTo>
                <a:lnTo>
                  <a:pt x="7546" y="20925"/>
                </a:lnTo>
                <a:cubicBezTo>
                  <a:pt x="7546" y="20588"/>
                  <a:pt x="7126" y="20250"/>
                  <a:pt x="6706" y="20250"/>
                </a:cubicBezTo>
                <a:lnTo>
                  <a:pt x="5686" y="20250"/>
                </a:lnTo>
                <a:cubicBezTo>
                  <a:pt x="5266" y="20250"/>
                  <a:pt x="4846" y="19913"/>
                  <a:pt x="4846" y="19575"/>
                </a:cubicBezTo>
                <a:cubicBezTo>
                  <a:pt x="4846" y="19238"/>
                  <a:pt x="5266" y="18900"/>
                  <a:pt x="5686" y="18900"/>
                </a:cubicBezTo>
                <a:close/>
              </a:path>
              <a:path fill="darkenLess" w="21600" h="21600">
                <a:moveTo>
                  <a:pt x="14054" y="18900"/>
                </a:moveTo>
                <a:lnTo>
                  <a:pt x="14054" y="20925"/>
                </a:lnTo>
                <a:cubicBezTo>
                  <a:pt x="14054" y="20588"/>
                  <a:pt x="14474" y="20250"/>
                  <a:pt x="14894" y="20250"/>
                </a:cubicBezTo>
                <a:lnTo>
                  <a:pt x="15914" y="20250"/>
                </a:lnTo>
                <a:cubicBezTo>
                  <a:pt x="16334" y="20250"/>
                  <a:pt x="16754" y="19913"/>
                  <a:pt x="16754" y="19575"/>
                </a:cubicBezTo>
                <a:cubicBezTo>
                  <a:pt x="16754" y="19238"/>
                  <a:pt x="16334" y="18900"/>
                  <a:pt x="15914" y="18900"/>
                </a:cubicBezTo>
                <a:close/>
              </a:path>
              <a:path fill="darkenLess" w="21600" h="21600">
                <a:moveTo>
                  <a:pt x="4846" y="19575"/>
                </a:moveTo>
                <a:lnTo>
                  <a:pt x="4846" y="2700"/>
                </a:lnTo>
              </a:path>
              <a:path fill="darkenLess" w="21600" h="21600">
                <a:moveTo>
                  <a:pt x="16754" y="19575"/>
                </a:moveTo>
                <a:lnTo>
                  <a:pt x="16754" y="2700"/>
                </a:lnTo>
              </a:path>
            </a:pathLst>
          </a:custGeom>
          <a:blipFill rotWithShape="0">
            <a:blip r:embed="rId8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Text Box 20"/>
          <p:cNvSpPr/>
          <p:nvPr/>
        </p:nvSpPr>
        <p:spPr>
          <a:xfrm>
            <a:off x="2590920" y="3112920"/>
            <a:ext cx="4190760" cy="11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Verdana"/>
              </a:rPr>
              <a:t>Каждый в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Verdana"/>
              </a:rPr>
              <a:t>лаборатории</a:t>
            </a: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Для программы повышения удовлетворенности клиентов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533160" y="2057040"/>
            <a:ext cx="8381880" cy="294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Требуется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иверженность всех сотрудников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ланирова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ладение методами отслежива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аличие ресурсов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Slide Number Placeholder 4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F8458-B0D2-46DB-ADF5-63CDEF99893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E21E1-4737-47FA-B039-0EF69EC5E64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79B74-08BB-4519-9EDB-3D98473A67B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1" name="Picture 14" descr="mom_baby"/>
          <p:cNvPicPr/>
          <p:nvPr/>
        </p:nvPicPr>
        <p:blipFill>
          <a:blip r:embed="rId1"/>
          <a:stretch/>
        </p:blipFill>
        <p:spPr>
          <a:xfrm>
            <a:off x="6705720" y="2133720"/>
            <a:ext cx="2057400" cy="147960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13" descr="elderly_patient_doc"/>
          <p:cNvPicPr/>
          <p:nvPr/>
        </p:nvPicPr>
        <p:blipFill>
          <a:blip r:embed="rId2"/>
          <a:stretch/>
        </p:blipFill>
        <p:spPr>
          <a:xfrm>
            <a:off x="533520" y="1676520"/>
            <a:ext cx="2176200" cy="2690640"/>
          </a:xfrm>
          <a:prstGeom prst="rect">
            <a:avLst/>
          </a:prstGeom>
          <a:ln w="0">
            <a:noFill/>
          </a:ln>
        </p:spPr>
      </p:pic>
      <p:sp>
        <p:nvSpPr>
          <p:cNvPr id="213" name="AutoShape 2"/>
          <p:cNvSpPr/>
          <p:nvPr/>
        </p:nvSpPr>
        <p:spPr>
          <a:xfrm>
            <a:off x="7010280" y="3581280"/>
            <a:ext cx="190512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селен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Лаборатория и ее клиенты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5" name="AutoShape 4"/>
          <p:cNvSpPr/>
          <p:nvPr/>
        </p:nvSpPr>
        <p:spPr>
          <a:xfrm>
            <a:off x="609480" y="4724280"/>
            <a:ext cx="182880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ациент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AutoShape 5"/>
          <p:cNvSpPr/>
          <p:nvPr/>
        </p:nvSpPr>
        <p:spPr>
          <a:xfrm>
            <a:off x="5715000" y="3352680"/>
            <a:ext cx="2057400" cy="838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храна здоровь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AutoShape 6"/>
          <p:cNvSpPr/>
          <p:nvPr/>
        </p:nvSpPr>
        <p:spPr>
          <a:xfrm>
            <a:off x="3124080" y="1371600"/>
            <a:ext cx="2819520" cy="7621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Verdana"/>
              </a:rPr>
              <a:t>Лаборатор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18" name="AutoShape 7"/>
          <p:cNvCxnSpPr/>
          <p:nvPr/>
        </p:nvCxnSpPr>
        <p:spPr>
          <a:xfrm>
            <a:off x="5029200" y="2133720"/>
            <a:ext cx="1410480" cy="12960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8"/>
          <p:cNvCxnSpPr/>
          <p:nvPr/>
        </p:nvCxnSpPr>
        <p:spPr>
          <a:xfrm flipH="1">
            <a:off x="1751760" y="2209680"/>
            <a:ext cx="2134440" cy="243900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20" name="AutoShape 9"/>
          <p:cNvSpPr/>
          <p:nvPr/>
        </p:nvSpPr>
        <p:spPr>
          <a:xfrm>
            <a:off x="3505320" y="4800600"/>
            <a:ext cx="220968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рачи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ругие мед. работник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21" name="AutoShape 10"/>
          <p:cNvCxnSpPr/>
          <p:nvPr/>
        </p:nvCxnSpPr>
        <p:spPr>
          <a:xfrm>
            <a:off x="4495680" y="2362320"/>
            <a:ext cx="78480" cy="228672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2" name="AutoShape 11"/>
          <p:cNvCxnSpPr>
            <a:stCxn id="215" idx="3"/>
            <a:endCxn id="220" idx="1"/>
          </p:cNvCxnSpPr>
          <p:nvPr/>
        </p:nvCxnSpPr>
        <p:spPr>
          <a:xfrm>
            <a:off x="2438280" y="5105520"/>
            <a:ext cx="1067760" cy="3816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23" name="AutoShape 12"/>
          <p:cNvCxnSpPr/>
          <p:nvPr/>
        </p:nvCxnSpPr>
        <p:spPr>
          <a:xfrm flipV="1">
            <a:off x="5638680" y="4190760"/>
            <a:ext cx="1448640" cy="12578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3E896-4344-494E-BFC0-0D619D14B67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AE4DC-06D5-43DF-8318-185ED727360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Лаборатория должна иметь юридическую идентификацию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440" y="1905120"/>
            <a:ext cx="655308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азва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адрес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ФИО руководителя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контактная информация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ff"/>
              </a:buClr>
              <a:buSzPct val="11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телефон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ff"/>
              </a:buClr>
              <a:buSzPct val="11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факс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ff"/>
              </a:buClr>
              <a:buSzPct val="11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электронная почт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9" name="Picture 4" descr="j0286448"/>
          <p:cNvPicPr/>
          <p:nvPr/>
        </p:nvPicPr>
        <p:blipFill>
          <a:blip r:embed="rId1"/>
          <a:stretch/>
        </p:blipFill>
        <p:spPr>
          <a:xfrm>
            <a:off x="5562720" y="1905120"/>
            <a:ext cx="32860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Olga</cp:lastModifiedBy>
  <dcterms:modified xsi:type="dcterms:W3CDTF">2013-05-17T14:21:21Z</dcterms:modified>
  <cp:revision>168</cp:revision>
  <dc:subject/>
  <dc:title>Slide 1</dc:title>
</cp:coreProperties>
</file>